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10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7B6-B29A-4745-B6B7-B64F7207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FBB-3A41-4B89-9048-9DBAE133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285-8F4C-4A86-93A5-04473875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DE1-3D3C-4EF0-913C-96F105E2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72F-811D-498F-9E6D-E387A613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570-8F61-4BF1-B3E3-B20F611D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386-D85D-4203-AB2F-010E28F5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080D-3011-4B28-A44A-B424CE52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57E-ABA3-4BFF-9F32-87879337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FA5-AD67-471A-B5E9-1EE6D47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E71-DEA1-4EB7-B09C-3BFF7846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961-A54F-49EF-B38B-93846B5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779E-D618-4FAD-81D0-66CD01AF1DAA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5949-C09D-4F33-96A5-4ECBE9963C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997360"/>
            <a:ext cx="828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Законы распределения времени наработки до отказа, наиболее часто используемые в теории надеж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400-CA82-4C5B-B046-C2E775ED7E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гласно закону больших чисел распределение всегда подчиняется нормальному закону, если на изменение случайной величины оказывают влияние многие примерно равнозначные факто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ормальному распределению подчиняются ошибки измерения деталей, отклонения дальности полета снарядов и т.п. При большом времени работы элемента и наличии восстановления среднее число отказов имеет асимптотически нормальное распредел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9BE-5103-4E5F-9676-6872711D2C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475560"/>
            <a:ext cx="820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нормального распределения функция надежности вычисляется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58920" y="1268280"/>
          <a:ext cx="5977080" cy="11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59770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4000" y="2781360"/>
          <a:ext cx="3743280" cy="14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781360"/>
                    <a:ext cx="374328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427640" y="32839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функция Лапласа, значения которой приведены в таблиц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437000"/>
            <a:ext cx="8461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им важное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свой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нормального распределения: сумма независимых случайных величин, имеющих нормальное распределение, также распределена по нормальному закону. При этом параметры суммы выражаются через параметры слагаемых: математическое ожидание суммы равно сумме математических ожиданий, дисперсия суммы равна сумме дисперс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431-AA68-4A19-8C8D-D1A6C18E16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Усеченное нормальное распределение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сеченное нормальное распреде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лучается из нормально­го при ограничении интервала изменения случайной величины на промежуток (0, +∞). Плотность распределения записывается так же, как для нормального распределения, но с коэффициентом пропорциональности 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700360" y="2637000"/>
          <a:ext cx="38876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637000"/>
                    <a:ext cx="3887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69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4164840"/>
            <a:ext cx="8353440" cy="15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еченное нормальное распределение зависит от двух параметров —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чение случайной величины, соответствующее максимальному значени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f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зываемо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996600"/>
                </a:solidFill>
                <a:latin typeface="Arial"/>
              </a:rPr>
              <a:t>модо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среднее квадратическое отклонение. Коэффициен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ределяется из условия норм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35280" y="5445000"/>
          <a:ext cx="16556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445000"/>
                    <a:ext cx="1655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1080" y="5804640"/>
            <a:ext cx="887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к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292720" y="5533920"/>
          <a:ext cx="230364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5533920"/>
                    <a:ext cx="230364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37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086-6982-4B5B-AF84-D6C4D06F8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тематическое ожидание и среднее квадратическое отклонение усеченного нормального распределения определяются через параметры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σ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 формул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03280" y="2492280"/>
          <a:ext cx="2737080" cy="7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92280"/>
                    <a:ext cx="27370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500720" y="2276640"/>
          <a:ext cx="3600360" cy="13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276640"/>
                    <a:ext cx="3600360" cy="13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988440" y="2604600"/>
            <a:ext cx="8146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06080" y="3246120"/>
            <a:ext cx="53748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2560" y="3992040"/>
            <a:ext cx="2203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70840" y="429156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71640" y="3645000"/>
          <a:ext cx="266400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645000"/>
                    <a:ext cx="26640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2BC-0B21-4B9B-8E0D-BEC98471D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логарифмически-нормальное распределени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123200"/>
            <a:ext cx="7777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огарифмически-нормальном распределе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огарифм случайной величины подчиняется нормальному закону с плотност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411280" y="2421000"/>
          <a:ext cx="396108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421000"/>
                    <a:ext cx="3961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16000" y="3497040"/>
            <a:ext cx="5557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араметры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19280" y="5516640"/>
          <a:ext cx="187308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5516640"/>
                    <a:ext cx="18730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24360" y="5445000"/>
          <a:ext cx="295272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5445000"/>
                    <a:ext cx="2952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95280" y="4715280"/>
            <a:ext cx="8466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 ожидание и среднее квадратическое отклонение определяются в соответствии с формулам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4320" y="3566880"/>
            <a:ext cx="25992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ECA-90C7-42F1-A750-4DE472330B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475560"/>
            <a:ext cx="8183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тность логарифмически-нормального распределения описывается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24000" y="1197000"/>
          <a:ext cx="417672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197000"/>
                    <a:ext cx="4176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982880" y="2420280"/>
            <a:ext cx="3695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 рас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835280" y="2852640"/>
            <a:ext cx="5400720" cy="32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51B-B2D4-413A-B34C-5CF53F49DD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33"/>
                </a:solidFill>
                <a:latin typeface="Garamond"/>
              </a:rPr>
              <a:t>Распределение Вейбулла</a:t>
            </a: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451440"/>
            <a:ext cx="76676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Вейбул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ляется достаточно универсальным, благодаря возможности варьирования двух его параметров. Оно характеризуется плотностью распределения вероят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230480" y="251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3240000" cy="118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-1230480" y="3048120"/>
          <a:ext cx="182880" cy="4870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763640" y="3140640"/>
            <a:ext cx="5796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α — параметр формы; β — параметр масшта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A6A-DCAC-4EA1-94F7-DF75EFC40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755640" y="1628640"/>
          <a:ext cx="25923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2592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708360" y="1484280"/>
          <a:ext cx="496908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1484280"/>
                    <a:ext cx="4969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859280" y="2205000"/>
          <a:ext cx="324000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2205000"/>
                    <a:ext cx="324000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84360" y="619560"/>
            <a:ext cx="820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матическое ожидание и среднее квадратическое отклонение выражаются через параметры α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β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01240" y="2707200"/>
            <a:ext cx="3271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Г — гамма-функция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3645000"/>
            <a:ext cx="84247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ниверсальность распределения Вейбулла объясняется следу­ющим: при α = 1 распределение превращается в экспоненциальное; при α &lt; 1 функции плотности и интенсивности отказов убывающие; при α &gt; 1 интенсивность отказов возрастающая; при α = 2 функц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λ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линейная и распределение Вейбулла превращается в распределение Рэлея с плот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348000" y="5229360"/>
          <a:ext cx="2376360" cy="66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5229360"/>
                    <a:ext cx="23763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6307920"/>
            <a:ext cx="820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α = 3,3 распределение Вейбулла близко к нормаль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F66-DF97-4B12-8546-7675F925C3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419640" y="3213000"/>
          <a:ext cx="201600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213000"/>
                    <a:ext cx="201600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012000" y="3357720"/>
          <a:ext cx="244764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357720"/>
                    <a:ext cx="244764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55640" y="3213000"/>
          <a:ext cx="2016000" cy="118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213000"/>
                    <a:ext cx="201600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11280" y="474840"/>
            <a:ext cx="806436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яду с логарифмически-нормальным распределением, распределение Вейбулла хорошо описывает наработку деталей по усталостным разрушениям, наработку до отказа подшипников, а также позволяет оценивать надежность деталей и узлов машин, в частности автомобил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мости между показателями надежности в случае распределения Вейбулла имеют вид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C59-4B76-4000-85A5-2969021CA1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55640" y="952560"/>
            <a:ext cx="7777080" cy="391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324000" y="4869000"/>
          <a:ext cx="8820000" cy="1309680"/>
        </p:xfrm>
        <a:graphic>
          <a:graphicData uri="http://schemas.openxmlformats.org/drawingml/2006/table">
            <a:tbl>
              <a:tblPr/>
              <a:tblGrid>
                <a:gridCol w="88200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нсивность отказов для распределения Вейбулла при раз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аметра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— пр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m =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200 ч и σ = 100 ч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— при m = 200 ч и σ = 80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800" y="30268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622-961E-4318-B1BE-1568BE002E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8589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истика законов рас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оверительный интервал и доверительная вероят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4826-9751-46C8-BEEA-907C2C2079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3787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80D-37C6-48D4-8E35-45CE245862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50160" cy="664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819-0300-49BE-ACF9-E44B2DEB4D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2.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Доверительный интервал и доверительная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вероятность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ценка неизвестного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дним числом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как это было сказано ранее, называется «точечной». В ряде случаев требуется не только найти для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подходящее численное значение, но и оценить его точность и надежность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ся знать, к каким ошибкам может привести замена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го точечной оценкой  и с какой степенью уверенности можно ожидать, что эти ошибки не выйдут за известные пределы. Такого рода задачи особенно актуальны при малом числе наблюдений, когда точечная оценк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значительной мере случайна и приближенная замен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 может привести к серьезным ошибкам. Для оценки точности и надежности параметр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спользуют так называемый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доверительный интервал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и</a:t>
            </a: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 доверительную вероятность.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219-FFA6-431B-B43D-201062CBB4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Экспоненциальное, или показательное распределение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кспоненциальным законом распределения можно аппроксимировать время безотказной работы большого числа элемен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первую очередь это относится к элементам радиоэлектронной аппаратуры, а также к машинам, эксплуатируемым в период после окончания приработки и до существенного проявления постепенных отказов. Экспоненциальное распределение применяется в областях, связанных с «временем жизни»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медицине — продолжительность жизни больных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надежности — продолжительность безотказной работы систем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психологии — время, затраченное на выполнение тестовых задач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но используется в задачах массового обслуживания, в которых речь идет об интервалах времени между телефонными звонками, или между моментами поступления техники в ремонтную мастерскую, или между моментами обращения клие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E98-791B-4307-AFE5-EEFF191538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Ф(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) = 1 – е  </a:t>
            </a:r>
            <a:r>
              <a:rPr b="1" i="1" lang="ru-RU" sz="30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1" i="1" lang="en-US" sz="3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при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≥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распределение имеет один параметр , где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— средняя наработка элемента до отказа. Таким образом, параметр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характеризует число отказов элемента в единицу времени и называется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интенсивностью отказо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он имеет размерность времени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E47-0E1C-446B-B6D7-5D8BBCB66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тность экспоненциального распределения задается как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λ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надеж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P(t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λ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λ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вероятность безотказной работы за врем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данном случае интенсивность отказов есть величина постоянная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λ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Функция ресурс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ʌ(t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экспоненциального распределения является линейно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ʌ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=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3600360" cy="296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10A4-D135-4B82-BC40-7A2F270F0D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гамма-процентного ресурса определяется по форму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916360" y="2276640"/>
          <a:ext cx="345600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276640"/>
                    <a:ext cx="34560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782-A07E-459E-94BF-49E0490E9A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споненциальное распределение выделяется среди других распределений свойством «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тсутствия памя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время службы некоторого изделия с экспоненциальным законом распределения. «</a:t>
            </a:r>
            <a:r>
              <a:rPr b="0" lang="ru-RU" sz="2600" spc="-1" strike="noStrike">
                <a:solidFill>
                  <a:srgbClr val="996600"/>
                </a:solidFill>
                <a:latin typeface="Arial"/>
              </a:rPr>
              <a:t>Отсутствие памя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 означает, что изделие, проработавшее время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имеет такое же распределение, что и новое, только что начавшее работу. Математически это свойство выражается в виде следующего равенств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(Х &gt;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) = Р(Х &gt; 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любых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, х ≥ 1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нное свойство как бы исключает износ и старение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B85-0172-4C2C-8797-9AFBA9AB61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Числовые характеристики экспоненциального распределения выражаются через его параметр: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"/>
          <p:cNvSpPr/>
          <p:nvPr/>
        </p:nvSpPr>
        <p:spPr>
          <a:xfrm>
            <a:off x="610200" y="1483560"/>
            <a:ext cx="62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ое ожидан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 = 1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исперс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D(X)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04000" y="1341360"/>
          <a:ext cx="420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341360"/>
                    <a:ext cx="420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6160" y="249156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е квадратическое от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03640" y="2205000"/>
          <a:ext cx="151164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205000"/>
                    <a:ext cx="1511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977040" y="5156640"/>
            <a:ext cx="266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λ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851280" y="5013360"/>
          <a:ext cx="863640" cy="8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5013360"/>
                    <a:ext cx="86364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037840" y="5156640"/>
            <a:ext cx="142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λ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3715920"/>
            <a:ext cx="7920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экспоненциальном законе отказов, между показателями надежности невосстанавливаемых систем существуют следующие зависим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8AB-F34F-4517-BB3D-AB62137E8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33"/>
                </a:solidFill>
                <a:latin typeface="Garamond"/>
              </a:rPr>
              <a:t>Нормальное распределение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196280"/>
            <a:ext cx="846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льное распре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ределение Гаусса) определяется плот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42920" y="2133720"/>
          <a:ext cx="35290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35290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643280" y="2491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1474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висит от двух параметров 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являются соответственно математическим ожиданием и средним квадратическим отклонением времени безотказной работы эле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340000" y="4064040"/>
            <a:ext cx="4103640" cy="27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C3C-C64C-4FC8-9887-DB1CC76304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3-11T05:55:50Z</dcterms:modified>
  <cp:revision>32</cp:revision>
  <dc:subject/>
  <dc:title>Лекция  № 11 </dc:title>
</cp:coreProperties>
</file>