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DB6-6B09-46A0-B7EF-D544ACE5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A79-F23A-44DF-B255-E47E7096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584-DB94-4655-9A9B-F75A3498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403-F383-42D3-97A0-0AD35822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A608-6595-43DB-97CB-1AC3A2B9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6F92-03EC-46FC-813D-6C5CCFCE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0DE1-DA00-4F9C-863C-79A6C029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112A-3645-4F3E-AFC2-A6D12AAD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341F-967C-4A30-A1DC-A72084C0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4414-2E30-421F-91E8-47571873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6D28-3E2B-48E0-95AC-7E8F5FE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74E-7FF8-4A82-A4DE-84FEC64B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EC25-798B-44DC-9BF8-27C4A5F3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3191-2C7B-4049-82A1-6162DE9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95A3-3D35-48FE-BC4B-B69226FB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AE8-3FA7-448E-B9B6-E1E37A883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FE81-6C2F-4F9D-997D-2FF85C6D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3C6-3BB6-4F07-8CB8-DB4AA7D9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2BF-F20C-4DFD-92CF-447BFE82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D764-541C-404B-95AF-17641421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5E5-7430-465A-80E1-5C506EB6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215-FC53-4E62-AFDD-C5E805D5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015-1755-4307-875D-DB27E60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D33-7914-4CD1-A4C1-4876C0F1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856-D700-4292-84B6-D66F5AAAD52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D3F-1C81-4FFE-B33C-0ACD43D6FC1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Лекция №12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4000" y="38862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а: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жные системы и их свой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978F-BC67-4CAE-BE7D-56DB9302C6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Иерархичност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подчинённость) определяется наличием трех категорий систе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оциальных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рганизационных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хнически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ервые находятся на высшем, вторые - на низшем уровне системной иерархии. В техническом плане иерархический характер структуры свидетельствует о том, что любая система может быть представлена как часть системы более высокого уровня иерарх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особом регулирования многоуровневой иерархии является управление. Управление делает необходимым постановку проблемы цели и целесообразного повед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DBE-8756-4DD1-A7E9-DDDF8CF75C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Конеч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истемы определяется наличием у неё границ. Граница есть то, что отделяет систему от других объектов. Это понятие многогранно. Оно относится не только к пространственным аспектам системы, но также и к временным, количественным и др. Конечность системы указывает на конечность потребных для её создания и функционирования ресурсов и, следовательно, на принципиальную реализуемость 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936D-866A-474D-A0FB-367DE230F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ложность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пределяется большим числом возможных состоя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остоян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истемы понимается интегральная характеристика, определяющая зависимость выхода системы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 её вх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310-2033-465D-B29E-AA79CDBD14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тоимость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ы в известной мере характеризует её важность и сложность и определяет величину затрат (денежный эквивалент ресурсов), потребных для обеспечения её создания, производства и эксплуат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C54-5AE1-40F8-99EE-3644C9A7B9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Автоматизирован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истемы вытекает из её человеко-машинного характера, определяет сочетание в ней элементов принятия автоматических решений в тривиальных ситуациях с принятием решений человеком в тех случаях, когда обстановка нетривиальна и требует творческих реш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5D7-102C-4FE6-9B8D-827EBF23E7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Риск и неопределенност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характеризующие обстановку создания и использования системы связаны с неполнотой априорной информации о среде, системе и характер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х взаимодейств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C2E-BE8C-4E96-A57B-EF3C97963A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2.Методы расчета сложных систе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CA8-BB31-4D7A-985A-C70458398B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Последовательность расчета надежности сложной системы сводится к следующему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ормулируется задание на расчет надежности, в нем должны быть указан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начение агрегата (системы), состав и основные сведения о функциониров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читываемые показатели надежности и признаки отка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я, в которых работает (или будет работать) данный агрегат (систем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бования к точности и достоверности расчетов, к полноте учета воздействующих эксплуатацио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изводится выбор и обоснование показателей надежности, по которым будет производиться оценка надежности элемента или системы в цел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атывается или составляется структурная схема надежности (ССН)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66A-939C-413B-BC25-FEC9DB853F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оследовательность расчета надежности сложной системы сводится к следующ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ирается более рациональный метод расчета в соответствии с ССН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зводится расчет и оценка точности полученных результа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зводится анализ полученных результатов и принятие реш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15C-8645-4587-9AFD-E51B973BB3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труктурной схемой надеж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нимается наглядное представление (графическое или в виде логических уравнений) условий при которых работает или не работает исследуемый объ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A90-50BD-4BB3-ADB9-99D9F631AD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истемой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разумевается множество элементов, находящихся в отношениях и связи между собой, которое образует  определенную  целостность, единств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BA7-244E-4127-912F-A5BD3C7099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95280" y="2205000"/>
            <a:ext cx="8064000" cy="3456720"/>
            <a:chOff x="395280" y="2205000"/>
            <a:chExt cx="8064000" cy="3456720"/>
          </a:xfrm>
        </p:grpSpPr>
        <p:grpSp>
          <p:nvGrpSpPr>
            <p:cNvPr id="110" name=""/>
            <p:cNvGrpSpPr/>
            <p:nvPr/>
          </p:nvGrpSpPr>
          <p:grpSpPr>
            <a:xfrm>
              <a:off x="395280" y="2205000"/>
              <a:ext cx="5208120" cy="584640"/>
              <a:chOff x="395280" y="2205000"/>
              <a:chExt cx="5208120" cy="5846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395280" y="2205000"/>
                <a:ext cx="1343880" cy="584640"/>
                <a:chOff x="395280" y="2205000"/>
                <a:chExt cx="1343880" cy="5846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899280" y="2205000"/>
                  <a:ext cx="503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95280" y="248436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403280" y="248436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403280" y="2205000"/>
                <a:ext cx="1343880" cy="584640"/>
                <a:chOff x="1403280" y="2205000"/>
                <a:chExt cx="1343880" cy="5846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907280" y="2205000"/>
                  <a:ext cx="503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403280" y="248436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411280" y="248436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083040" y="2205000"/>
                <a:ext cx="1511640" cy="584640"/>
                <a:chOff x="3083040" y="2205000"/>
                <a:chExt cx="1511640" cy="5846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650040" y="22050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-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83040" y="24843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217040" y="24843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259520" y="2205000"/>
                <a:ext cx="1343880" cy="584640"/>
                <a:chOff x="4259520" y="2205000"/>
                <a:chExt cx="1343880" cy="5846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763520" y="2205000"/>
                  <a:ext cx="503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59520" y="248436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67520" y="248436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747160" y="2484360"/>
                <a:ext cx="50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275520" y="2205000"/>
              <a:ext cx="2183760" cy="3313440"/>
              <a:chOff x="6275520" y="2205000"/>
              <a:chExt cx="2183760" cy="331344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6611400" y="4933800"/>
                <a:ext cx="1511280" cy="584640"/>
                <a:chOff x="6611400" y="4933800"/>
                <a:chExt cx="1511280" cy="5846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178400" y="49338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611400" y="52131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745040" y="52131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611400" y="2205000"/>
                <a:ext cx="1511280" cy="584640"/>
                <a:chOff x="6611400" y="2205000"/>
                <a:chExt cx="1511280" cy="584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178400" y="22050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611400" y="24843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745040" y="24843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613560" y="2984400"/>
                <a:ext cx="1511280" cy="584640"/>
                <a:chOff x="6613560" y="2984400"/>
                <a:chExt cx="1511280" cy="584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180560" y="298440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13560" y="326376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47200" y="326376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611400" y="4154040"/>
                <a:ext cx="1511280" cy="584640"/>
                <a:chOff x="6611400" y="4154040"/>
                <a:chExt cx="1511280" cy="5846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178400" y="4154040"/>
                  <a:ext cx="566640" cy="584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n-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11400" y="4433400"/>
                  <a:ext cx="567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45040" y="4433400"/>
                  <a:ext cx="377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6611400" y="248400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11400" y="422460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23400" y="246996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123400" y="4419360"/>
                <a:ext cx="0" cy="77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75520" y="3958920"/>
                <a:ext cx="3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123400" y="3958920"/>
                <a:ext cx="3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611400" y="3374280"/>
                <a:ext cx="0" cy="77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23400" y="3374280"/>
                <a:ext cx="0" cy="97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62680" y="3179520"/>
              <a:ext cx="4524840" cy="2482200"/>
              <a:chOff x="562680" y="3179520"/>
              <a:chExt cx="4524840" cy="24822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562680" y="3179520"/>
                <a:ext cx="4524840" cy="2482200"/>
                <a:chOff x="562680" y="3179520"/>
                <a:chExt cx="4524840" cy="248220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072880" y="5077440"/>
                  <a:ext cx="1511640" cy="584280"/>
                  <a:chOff x="2072880" y="5077440"/>
                  <a:chExt cx="1511640" cy="5842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2639880" y="5077440"/>
                    <a:ext cx="566640" cy="58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072880" y="535644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206880" y="535644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1571040" y="3179520"/>
                  <a:ext cx="1511280" cy="584640"/>
                  <a:chOff x="1571040" y="3179520"/>
                  <a:chExt cx="1511280" cy="5846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2138040" y="3179520"/>
                    <a:ext cx="566640" cy="584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571040" y="345888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2704680" y="345888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1572840" y="3958920"/>
                  <a:ext cx="1511280" cy="584640"/>
                  <a:chOff x="1572840" y="3958920"/>
                  <a:chExt cx="1511280" cy="58464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139840" y="3958920"/>
                    <a:ext cx="566640" cy="584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1572840" y="423828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706480" y="423828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898920" y="5077440"/>
                  <a:ext cx="1570320" cy="584280"/>
                  <a:chOff x="898920" y="5077440"/>
                  <a:chExt cx="1570320" cy="5842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1487880" y="5077440"/>
                    <a:ext cx="588960" cy="58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98920" y="5356440"/>
                    <a:ext cx="588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2076840" y="5356440"/>
                    <a:ext cx="392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1571040" y="3472560"/>
                  <a:ext cx="0" cy="75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98920" y="3821400"/>
                  <a:ext cx="0" cy="155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082680" y="3458880"/>
                  <a:ext cx="0" cy="76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87040" y="3821400"/>
                  <a:ext cx="0" cy="155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082680" y="3821400"/>
                  <a:ext cx="504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"/>
                <p:cNvGrpSpPr/>
                <p:nvPr/>
              </p:nvGrpSpPr>
              <p:grpSpPr>
                <a:xfrm>
                  <a:off x="3575880" y="4211280"/>
                  <a:ext cx="1511640" cy="584280"/>
                  <a:chOff x="3575880" y="4211280"/>
                  <a:chExt cx="1511640" cy="5842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4142880" y="4211280"/>
                    <a:ext cx="566640" cy="58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575880" y="4490280"/>
                    <a:ext cx="567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4709880" y="4490280"/>
                    <a:ext cx="377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flipH="1">
                  <a:off x="562680" y="4600800"/>
                  <a:ext cx="33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898920" y="3792240"/>
                <a:ext cx="67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417760" y="835920"/>
            <a:ext cx="52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Структурные схемы надежности элем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F42-B2E4-4176-8C78-6227309B14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ой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без резервир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называют такую систему, совокупность элементов которой позволяет выполнять заданные функции только при условии, что все элементы работоспособ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хемой такой системы, изображаемой графически, является последовательное (основное) включение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27F-5D51-4252-BE32-B84384E962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Резервированн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истемой называют такую совокупность элементов, а которой часть элементов является избыточной по отношению к минимальной функциональной структуре системы  необходимой и достаточной для выполнения ею заданных функц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хемой такой системы, изображаемой графически, является параллельное включение элемент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7168-678C-4BF0-9E17-731FFEFD1B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Garamond"/>
              </a:rPr>
              <a:t>Последовательное соединение элементов.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87280" y="836640"/>
                <a:ext cx="66963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835280" y="2637000"/>
                <a:ext cx="46591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79640" y="4365720"/>
                <a:ext cx="45338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4880" y="3137760"/>
            <a:ext cx="82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;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2720" y="385704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217-50B0-4AF6-8002-B981582EDE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547640" y="1413000"/>
                <a:ext cx="557856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042920" y="3860640"/>
                <a:ext cx="2376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219640" y="3645000"/>
                <a:ext cx="280836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115880" y="3048840"/>
            <a:ext cx="91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278-3527-4FAC-A182-4B677F7968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33"/>
                </a:solidFill>
                <a:latin typeface="Garamond"/>
              </a:rPr>
              <a:t>Параллельное соединение элементов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84360" y="1125360"/>
                <a:ext cx="7920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619280" y="2565360"/>
                <a:ext cx="583236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19280" y="4221000"/>
                <a:ext cx="512928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4880" y="3137760"/>
            <a:ext cx="82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;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2720" y="3885480"/>
            <a:ext cx="226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126-E3C4-459A-BC41-18C6612AB3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00360" y="1484280"/>
                <a:ext cx="4251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48000" y="3645000"/>
                <a:ext cx="292428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j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114440" y="2566440"/>
            <a:ext cx="500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31E-E98F-43FD-8073-4E48BD45B7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Способы преобразования сложных структур: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особ эквивалентных замен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ожение сложной структуры по базовому элемент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тричный способ преобразования структур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D43-2E31-4C55-9AB2-C72A39E586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Способ эквивалентных замен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щность способа эквивалентных замен заключается в том, что в цепи структуры узел сложной конфигурации заменяется на узел другой, более простой конфигурации, но при этом подбирается такие характеристики нового узла, чтобы показатели надежности преобразуемой цепи структуры сохранялись преж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40B-F915-47C8-A364-9464B24530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3280" y="1129680"/>
            <a:ext cx="7969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3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95280" y="1916280"/>
            <a:ext cx="7632360" cy="2952720"/>
            <a:chOff x="395280" y="1916280"/>
            <a:chExt cx="7632360" cy="2952720"/>
          </a:xfrm>
        </p:grpSpPr>
        <p:sp>
          <p:nvSpPr>
            <p:cNvPr id="215" name=""/>
            <p:cNvSpPr/>
            <p:nvPr/>
          </p:nvSpPr>
          <p:spPr>
            <a:xfrm>
              <a:off x="786600" y="329400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65080" y="191628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560" y="329400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5280" y="230976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48080" y="2309760"/>
              <a:ext cx="137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77920" y="2309760"/>
              <a:ext cx="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77920" y="408132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5240" y="408132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77920" y="4475160"/>
              <a:ext cx="19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6760" y="44751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35240" y="2309760"/>
              <a:ext cx="0" cy="98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6560" y="447516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526200" y="4672080"/>
              <a:ext cx="136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62360" y="368748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5000" y="211284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79360" y="2112840"/>
              <a:ext cx="782640" cy="78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71040" y="19162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36680" y="19162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71040" y="29001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36680" y="2900160"/>
              <a:ext cx="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71040" y="3294000"/>
              <a:ext cx="156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3680" y="3294000"/>
              <a:ext cx="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3680" y="4475160"/>
              <a:ext cx="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50920" y="1225080"/>
            <a:ext cx="806436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               3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                    3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2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треугольника звездой            б- звезды треуголь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  <a:ea typeface="Times New Roman"/>
              </a:rPr>
              <a:t>Эквивалентные схемы замены соеди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0A2-3398-477C-BDC9-31D5D49B12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им признаком системы является то, что составляющие ее элементы образуют во взаимосвязи единое целое с качественно новыми свойств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личают три вида связей между элементами системы: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механическу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когда связь между элементами осуществляется путем обмена усилиями),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трофическу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обмен энергией) и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сигнальну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обмен сигналами, информацией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AAD-AC1D-4016-A117-A908AC3AA2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ли пренебречь произведениями в результате решения системы уравнений можно записа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30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57D-9008-41ED-B7F2-9F4683F612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826920" y="2565360"/>
                <a:ext cx="1872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419640" y="2492280"/>
                <a:ext cx="208728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227640" y="2565360"/>
                <a:ext cx="18432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684360" y="80136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ратного преобразования соединения элементов звездой в соединение элементов треугольником получаем следующие соотно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E69-94A5-4952-B915-8A96BD4DB4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Разложение структуры по базовому элемент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снове данного способа лежит использование теоремы о сумме вероятностей несовместных собы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ля преобразования сложных структур в параллельно-последовательные выбирают базовый элемент (или группу базовых элементов) и делают следующие допущ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базовый элемент находится в работоспособном состоянии (поток жидкости, электрический ток, сигнал через него проходя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базовый элемент находится в состоянии отказа (пропускная способность его равна нулю, электрический ток через него не проходит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C3D-2610-447D-A675-E72DA6882E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Матричный способ преобразования структуры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снове данного способа лежит составление матрицы состояний отказа рассматриваемой системы. Матрица составляется таким образом, чтобы число ее строк соответствовало числу возможных состояний отказа системы, а число столбцов - числу элементов в системе. В соответствии с сочетанием отказов элементов в системе, при которых наступает отказ системы, составляется структурная схема надеж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49D-CB27-4259-86E3-0EAAAD5613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79280" y="1290240"/>
            <a:ext cx="8748360" cy="3262320"/>
            <a:chOff x="179280" y="1290240"/>
            <a:chExt cx="8748360" cy="3262320"/>
          </a:xfrm>
        </p:grpSpPr>
        <p:grpSp>
          <p:nvGrpSpPr>
            <p:cNvPr id="249" name=""/>
            <p:cNvGrpSpPr/>
            <p:nvPr/>
          </p:nvGrpSpPr>
          <p:grpSpPr>
            <a:xfrm>
              <a:off x="1961280" y="1690560"/>
              <a:ext cx="5208480" cy="2469600"/>
              <a:chOff x="1961280" y="1690560"/>
              <a:chExt cx="5208480" cy="2469600"/>
            </a:xfrm>
          </p:grpSpPr>
          <p:sp>
            <p:nvSpPr>
              <p:cNvPr id="250" name=""/>
              <p:cNvSpPr/>
              <p:nvPr/>
            </p:nvSpPr>
            <p:spPr>
              <a:xfrm>
                <a:off x="1961280" y="1690560"/>
                <a:ext cx="5208480" cy="246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53280" y="1690560"/>
                <a:ext cx="720" cy="246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4210920" y="254088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87200" y="377532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87200" y="131220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3800" y="3775320"/>
              <a:ext cx="655920" cy="77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3800" y="1290240"/>
              <a:ext cx="655920" cy="77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127880" y="2925000"/>
              <a:ext cx="833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169040" y="2925000"/>
              <a:ext cx="8330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02680" y="2925000"/>
              <a:ext cx="62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9280" y="2925000"/>
              <a:ext cx="62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27960" y="2184120"/>
              <a:ext cx="83304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03200" y="2184120"/>
              <a:ext cx="104148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03200" y="3171600"/>
              <a:ext cx="104148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53800" y="3171600"/>
              <a:ext cx="1041480" cy="493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70160" y="2678040"/>
              <a:ext cx="624960" cy="493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587040" y="54864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Логическая 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7C4-B908-481D-8B85-B43BBCDCCB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1484280"/>
            <a:ext cx="8893080" cy="2772720"/>
            <a:chOff x="0" y="1484280"/>
            <a:chExt cx="8893080" cy="2772720"/>
          </a:xfrm>
        </p:grpSpPr>
        <p:grpSp>
          <p:nvGrpSpPr>
            <p:cNvPr id="268" name=""/>
            <p:cNvGrpSpPr/>
            <p:nvPr/>
          </p:nvGrpSpPr>
          <p:grpSpPr>
            <a:xfrm>
              <a:off x="2736360" y="1905840"/>
              <a:ext cx="1368000" cy="1936440"/>
              <a:chOff x="2736360" y="1905840"/>
              <a:chExt cx="1368000" cy="1936440"/>
            </a:xfrm>
          </p:grpSpPr>
          <p:sp>
            <p:nvSpPr>
              <p:cNvPr id="269" name=""/>
              <p:cNvSpPr/>
              <p:nvPr/>
            </p:nvSpPr>
            <p:spPr>
              <a:xfrm>
                <a:off x="2736360" y="2202120"/>
                <a:ext cx="1368000" cy="136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50360" y="190584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54320" y="330372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843800" y="1484280"/>
              <a:ext cx="1368000" cy="2769120"/>
              <a:chOff x="4843800" y="1484280"/>
              <a:chExt cx="1368000" cy="2769120"/>
            </a:xfrm>
          </p:grpSpPr>
          <p:sp>
            <p:nvSpPr>
              <p:cNvPr id="273" name=""/>
              <p:cNvSpPr/>
              <p:nvPr/>
            </p:nvSpPr>
            <p:spPr>
              <a:xfrm>
                <a:off x="4843800" y="1765080"/>
                <a:ext cx="1368000" cy="22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239800" y="148428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231160" y="371520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43800" y="2885040"/>
                <a:ext cx="1368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31160" y="261324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840720" y="1487880"/>
              <a:ext cx="1368000" cy="2769120"/>
              <a:chOff x="6840720" y="1487880"/>
              <a:chExt cx="1368000" cy="2769120"/>
            </a:xfrm>
          </p:grpSpPr>
          <p:sp>
            <p:nvSpPr>
              <p:cNvPr id="279" name=""/>
              <p:cNvSpPr/>
              <p:nvPr/>
            </p:nvSpPr>
            <p:spPr>
              <a:xfrm>
                <a:off x="6840720" y="1768680"/>
                <a:ext cx="1368000" cy="222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236720" y="148788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28080" y="371880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40720" y="2888640"/>
                <a:ext cx="13680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28080" y="261684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84000" y="1905840"/>
              <a:ext cx="1368000" cy="1936440"/>
              <a:chOff x="684000" y="1905840"/>
              <a:chExt cx="1368000" cy="1936440"/>
            </a:xfrm>
          </p:grpSpPr>
          <p:sp>
            <p:nvSpPr>
              <p:cNvPr id="285" name=""/>
              <p:cNvSpPr/>
              <p:nvPr/>
            </p:nvSpPr>
            <p:spPr>
              <a:xfrm>
                <a:off x="684000" y="2202120"/>
                <a:ext cx="1368000" cy="136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098000" y="1905840"/>
                <a:ext cx="538560" cy="53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101960" y="3303720"/>
                <a:ext cx="538560" cy="538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Э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052000" y="2886120"/>
              <a:ext cx="68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436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72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09080" y="2886120"/>
              <a:ext cx="684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921040" y="61992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Структурная схема наде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9CDE-B46E-4E44-80CB-8E1F6BEF692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стречающиеся в практике системы весьма разнообразны, поэтому для создания общих принципов и методов исследования необходимо производить их классификацию по некоторым наиболее существенным признакам. Такими признаками являются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целевое назначение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целостн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ложн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тепень неопределенност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характер поведения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степень адаптивност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уровень организации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управляемость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характер развития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480" indent="21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область приложения и другие признаки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F5C-0EC0-4422-80F9-B469FBC59A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сложности системы делятся на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простые, сложные и большие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Простой систем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нято называть систему, которая не имеет разветвленной структуры (нельзя выделить иерархические уровни) и имеет небольшое число элемен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0A6B-81BC-44B0-8ADD-10E57A548C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ложной систем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нято называть систему с разветвленной структурой и значительным количеством взаимосвязанных и взаимодействующих элементов, являющихся простыми систем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Большой систем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ринято называть целостную человеко-машинную систему с централизованным автоматизированным управлением, целенаправленно функционирующую и совершенствующуюся в условиях случайных и конфликтных ситуац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496-34F6-451F-BB37-6C3CE4F61C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ногообразие систем, обслуживающих современное общество можно разделить на два основных тип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ы тип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«человек - машина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истемы типа 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«человек - человек»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ABE-235A-4A21-B86C-C74082039C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сновные свойства систем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Целостность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ыражается представлением о целенаправленности и единстве. Она обеспечивает выполнение всеми компонентами системы целенаправленной работы как единого целого для выполнения ее назначения в процессе взаимодействия с внешней сред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CAB-E519-475B-958A-895DEDF7C6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Эмердже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определяет наличие у системы таких свойств, которые не присущи её отдельным элементам; эмерджентность, характеризует неаддитивность свойств системы, нелинейность связи между свойствами системы и составляющих её элемент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5D9-4F1E-48D2-8831-18FAC51C5B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8:19:20Z</dcterms:created>
  <dc:creator>андрей</dc:creator>
  <dc:description/>
  <dc:language>en-US</dc:language>
  <cp:lastModifiedBy>RIS</cp:lastModifiedBy>
  <dcterms:modified xsi:type="dcterms:W3CDTF">2013-04-04T07:25:03Z</dcterms:modified>
  <cp:revision>6</cp:revision>
  <dc:subject/>
  <dc:title>Лекция №2</dc:title>
</cp:coreProperties>
</file>