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D98D-5062-4198-B8CC-15FA80E9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0EA-483D-42F3-A1BC-8DD71937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392-39DA-486B-90C6-5CCFEE76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901-9FE7-4548-89AB-FF82C9E2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4B78-50C6-4651-8AA0-910D3796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D8CC-2C95-4B57-863E-95AE8D1E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16C2-C0DE-4667-AC5E-39CEE1C0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3533-02E3-481D-B310-D03BD8C7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2131-0DC1-4D37-833B-DA60EB88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36F8-AFF2-49C0-A768-72A62C36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2D22-F0EA-4C3B-80CF-07434D8F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92F-0696-4A8D-AA12-70EB8C5B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D900-5475-4003-A68B-A8AD84E0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F32E-F3E5-48FD-B606-296F1199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E9FA-7D8C-4779-9381-A5D8E041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25BF-A759-43E0-8731-D8DC4ECD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0C81-C97E-4FAB-8A8F-C6E870E9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CC8-DE8C-4843-9323-ECF7646F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6534-ECF6-4E22-930A-7FD5E9C1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367F-40A1-486F-B418-CA8F6F4F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4CF3-557F-4495-8743-E6CC5AA7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5B7-2078-49E4-BC27-E411F44C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F79-3B5B-4F67-A2FF-3426E95C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974-93D2-4CEE-B99F-BF323A1E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7AEA-8153-458C-A2CC-FBC334744D8E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8F61-7A0F-4A14-9245-EBD1E1DAA6F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0370-2A63-4753-BA52-99FC47ADF46E}" type="datetime">
              <a:rPr b="0" lang="ru-RU" sz="1200" spc="-1" strike="noStrike">
                <a:solidFill>
                  <a:srgbClr val="000000"/>
                </a:solidFill>
                <a:latin typeface="Garamond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6371-400E-4857-BD3D-277D251FC7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FB7B-FF79-4C79-A84B-A4C9846439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Лекция  № 2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“Надежность и качество маши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3001-8817-4C29-9085-6726FF565B6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На этапах разработки, изготовления и эксплуатации изделий оценку уровня качества проводят в целя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основания прогнозируемого и планируемого уровня качества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основания технических требований к изделиям в НТД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я динамики изменения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циональной организации контроля качества и испытаний изделий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196C-9876-4004-9468-6883E4FCD86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На этапе разработки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изделий оценку уровня качества проводят в целях: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бора оптимального варианта при создании новых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становления пригодности образцов для серийного изготов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8C10-A157-44BA-8AB6-9BF51418E72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На этапе изготовления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изделий оценку уровня качества проводят в целях: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тверждения целесообразности дальнейшего изготовления изделий по утвержденной технологической и конструкторской документации и поставки заказчик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я целесообразности внесения изменений в конструкции и технологический процесс изготов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1670-E71E-4F11-9617-1340E7C1AA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На этапе эксплуатации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изделий  оценку уровня качества проводят в целях: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тимизации режимов применения, технического обслуживания, транспортирования, хранения и ремонта издел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ановления необходимости замены, переналадки и регулировки узлов, агрегатов и других составных частей издел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тимизации состава ЗИП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работки рекомендаций по совершенствованию изделий или снятию их с производ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C378-B39A-4B75-AF48-CB912BCD0EF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Выбор и определение показателей качества изделий проводится в такой последовательности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и всесторонняя характеристика изделий как объекта оценки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бор и обоснование показателей качества для конкретного изделия на основании проведенного анализ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качества изделий в соответствии с существующими принципами квалиметр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02C9-803D-46DD-9B05-E0E8692FAF4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68360" y="403560"/>
            <a:ext cx="833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сравнения различных свойств изделий значения относительных показателей определяются в виде нормированных величин, которые получают как отношение отклонений параметров от средних (номинальных) значений к половине значения интервала допуска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2268360" y="2565360"/>
                <a:ext cx="45691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х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6"/>
          <p:cNvSpPr/>
          <p:nvPr/>
        </p:nvSpPr>
        <p:spPr>
          <a:xfrm>
            <a:off x="1187280" y="4459320"/>
            <a:ext cx="72010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х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ренные значения параме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min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m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предельно допустимые значения контролируемых параметров, задаваемых в НТ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FB25-E91B-4F40-8C9F-71F23553B68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параметров, на которые в НТД дается односторонний допуск (сопротивление изоляции, потребляемая мощность и т.д.), недостающие пределы определяются из следующих выражен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&gt;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a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&lt;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a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m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едние значения контролируемых параметров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ср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утся равным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минальным значениям параметров или определяются по статистическим данны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7350-F0B3-46AF-BAA7-F92710B7E79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95280" y="295200"/>
            <a:ext cx="85694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чно комплексные показатели качества изделий  определяются как средневзвешенные значения исходных единичных показателей, при этом значение комплексных показателей существенно зависит от выбранной функциональной зависимости между отдельными единичными показателями. При допущении о взаимонезависимости единичных показателе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лексный показатель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числя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2771640" y="2924280"/>
                <a:ext cx="3562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" name="Rectangle 6"/>
          <p:cNvSpPr/>
          <p:nvPr/>
        </p:nvSpPr>
        <p:spPr>
          <a:xfrm>
            <a:off x="395280" y="54964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знаменател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число единичных показателей) введен для нормирования велич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пределах 0&l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lt;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24BC-4C25-43DB-850F-E7A8E5A85A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95280" y="972000"/>
            <a:ext cx="819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лексный показатель качества может использоваться для оценки качества как отдельных, так и совокупности однотипных изделий. В последнем случае его значение вычисля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556000" y="2924280"/>
                <a:ext cx="36115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1" name="Rectangle 6"/>
          <p:cNvSpPr/>
          <p:nvPr/>
        </p:nvSpPr>
        <p:spPr>
          <a:xfrm>
            <a:off x="539640" y="5345640"/>
            <a:ext cx="811548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 однотипных изделий, для которых определены комплексные показат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B3B9-EFEF-4AFB-97C6-AE6EF2147DA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28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2.   Методы определения уровней качества. Оптимизация уровней качеств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2488-DAF0-4D95-B10E-853D3BF16A3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онятие качества. Классификация показателей ка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етоды определения уровней качества. Оптимизация уровней ка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D293-CF49-4D65-8C57-6C4F6EF307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Методы оценки уровня качества изделий подразделяю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фференциальны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плексны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мешанны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B1FD-CD69-42E5-9143-477F3C971B3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оценке степени соответствия уровня качества изделий требованиям конкретного потребителя, ТЗ, ТУ или стандарту целесообразно применять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дифференциаль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метод оцен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оценке изделия на соответствие совокупности лучших изделий-аналогов для установления уровня качества или количественной оценки качества целесообразен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комплекс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мето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Смешан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метод оценки уровня качества изделий применяется тогда, когда наряду с комплексным показателем качества необходимо дополнительно учесть отдельные наиболее важные единичные показател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6826-54D9-4130-BC93-9A4F0F73F9A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610920" y="189000"/>
            <a:ext cx="5832720" cy="6400800"/>
            <a:chOff x="610920" y="189000"/>
            <a:chExt cx="5832720" cy="6400800"/>
          </a:xfrm>
        </p:grpSpPr>
        <p:sp>
          <p:nvSpPr>
            <p:cNvPr id="170" name="Rectangle 5"/>
            <p:cNvSpPr/>
            <p:nvPr/>
          </p:nvSpPr>
          <p:spPr>
            <a:xfrm>
              <a:off x="1057320" y="18900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ределение цели оце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1057320" y="78192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lvl="1" marL="39744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бор номенклатуры показателей оцениваемого изделия и их коэффициентов весо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1057320" y="137556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бор базовых показател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1057320" y="196848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бор метода оце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1057320" y="256212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бор модели комплексного показа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1057320" y="315540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счет относительного показа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счет комплексного показа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1057320" y="374868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пределение критериев оце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1057320" y="552852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работка и обоснование вариантов реш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1057320" y="434196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lvl="1" marL="39744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ведение сопоставительного анализа результатов оценки по поставленной ц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4"/>
            <p:cNvSpPr/>
            <p:nvPr/>
          </p:nvSpPr>
          <p:spPr>
            <a:xfrm>
              <a:off x="1057320" y="493524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работка критериев оптималь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1057320" y="6121800"/>
              <a:ext cx="49266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инятие решения по результатам оце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6"/>
            <p:cNvSpPr/>
            <p:nvPr/>
          </p:nvSpPr>
          <p:spPr>
            <a:xfrm>
              <a:off x="5981040" y="41940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7"/>
            <p:cNvSpPr/>
            <p:nvPr/>
          </p:nvSpPr>
          <p:spPr>
            <a:xfrm>
              <a:off x="6443640" y="419400"/>
              <a:ext cx="0" cy="47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8"/>
            <p:cNvSpPr/>
            <p:nvPr/>
          </p:nvSpPr>
          <p:spPr>
            <a:xfrm flipH="1">
              <a:off x="5997240" y="515484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10920" y="38664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0"/>
            <p:cNvSpPr/>
            <p:nvPr/>
          </p:nvSpPr>
          <p:spPr>
            <a:xfrm>
              <a:off x="611280" y="386640"/>
              <a:ext cx="0" cy="35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1"/>
            <p:cNvSpPr/>
            <p:nvPr/>
          </p:nvSpPr>
          <p:spPr>
            <a:xfrm>
              <a:off x="611280" y="394632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2"/>
            <p:cNvSpPr/>
            <p:nvPr/>
          </p:nvSpPr>
          <p:spPr>
            <a:xfrm>
              <a:off x="611280" y="216648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3"/>
            <p:cNvSpPr/>
            <p:nvPr/>
          </p:nvSpPr>
          <p:spPr>
            <a:xfrm>
              <a:off x="3287880" y="68328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4"/>
            <p:cNvSpPr/>
            <p:nvPr/>
          </p:nvSpPr>
          <p:spPr>
            <a:xfrm>
              <a:off x="3287880" y="127656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5"/>
            <p:cNvSpPr/>
            <p:nvPr/>
          </p:nvSpPr>
          <p:spPr>
            <a:xfrm>
              <a:off x="3287880" y="186984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6"/>
            <p:cNvSpPr/>
            <p:nvPr/>
          </p:nvSpPr>
          <p:spPr>
            <a:xfrm>
              <a:off x="3287880" y="246312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7"/>
            <p:cNvSpPr/>
            <p:nvPr/>
          </p:nvSpPr>
          <p:spPr>
            <a:xfrm>
              <a:off x="3287880" y="305640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8"/>
            <p:cNvSpPr/>
            <p:nvPr/>
          </p:nvSpPr>
          <p:spPr>
            <a:xfrm>
              <a:off x="3287880" y="364968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9"/>
            <p:cNvSpPr/>
            <p:nvPr/>
          </p:nvSpPr>
          <p:spPr>
            <a:xfrm>
              <a:off x="3287880" y="424296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0"/>
            <p:cNvSpPr/>
            <p:nvPr/>
          </p:nvSpPr>
          <p:spPr>
            <a:xfrm>
              <a:off x="3287880" y="483624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1"/>
            <p:cNvSpPr/>
            <p:nvPr/>
          </p:nvSpPr>
          <p:spPr>
            <a:xfrm>
              <a:off x="3287880" y="542952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2"/>
            <p:cNvSpPr/>
            <p:nvPr/>
          </p:nvSpPr>
          <p:spPr>
            <a:xfrm>
              <a:off x="3287880" y="6022800"/>
              <a:ext cx="0" cy="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33"/>
          <p:cNvSpPr/>
          <p:nvPr/>
        </p:nvSpPr>
        <p:spPr>
          <a:xfrm>
            <a:off x="6227640" y="530028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Порядок проведения комплексной оценки уровня качества издел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777F-09CC-4734-9549-BAEDA02C599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За базовые показатели могут быть приняты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азатели перспективных (планируемых) изделий с учетом прогнозируемого уровня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азатели конкретных изделий, выбираемых из всей совокупности лучших образцов-аналогов отечественного и зарубежного производства, представляющих предельный уровень качества на данный период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казатели отечественного или зарубежного стандар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76CC-5B67-4C08-B9B4-217BFB9815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Показатели качества перспективных (планируемых) изделий устанавливаются на основе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а требований потребител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ижений науки и техник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яющих возможность выполнения задаваемых показателей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а показателей качества экспериментальных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41E0-71E3-4E2A-8B11-7B52F76BEE4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Показатели качества перспективных (планируемых) изделий устанавливаются на основе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результатов прогноза научно-технического прогресса, условиями, определяющими возможность применения требований стандарта при выборе базовых показат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наличие технико-экономических обоснований возможности и необходимости получения заданных в стандарте значений показателей уровня каче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редставительность стандарта, т.е. наличие информации о том, что основная часть продукции выпускается по принятому стандар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DAA5-B0FF-4167-BFB8-689875BA9BF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Уровень базовых показателей качества изделий определяется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сшим достигнутым мировым или народнохозяйственным уровнем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едним достигнутым мировым или народнохозяйственным уровнем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тимальным технико-экономическим уровнем качест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спективным народнохозяйственным или мировым уровнем каче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3B17-162E-418C-9CBE-75360950354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Garamond"/>
              </a:rPr>
              <a:t>Рекомендации по выбору базовых показателей и метода оценки в зависимости от цели оценк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1125360"/>
          <a:ext cx="8229600" cy="5059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480" indent="219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 выбора базового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9840">
                <a:tc>
                  <a:txBody>
                    <a:bodyPr lIns="90000" rIns="90000"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варианта решения при проектиро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ания, в том числе госиспыт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тестация прод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я динамики изменения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ование выпуска издел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пективный образец, аналог, станда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ТД, в том числе ТЗ, ТУ, стандарты, аналоги, карты технического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ы, аналоги, карты технического уров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базового пери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Т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базового периода, перспективный образ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, комплек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,   комплексный, смеша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, комплек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1076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альный, комплексный, смеша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4204-6EF8-422B-977B-6E1E5A34781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6633"/>
                </a:solidFill>
                <a:latin typeface="Garamond"/>
              </a:rPr>
              <a:t>1. Понятие качества. Классификация показателей качества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DE9F-3911-431C-8E96-71AC8B49B6B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Качество издели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это совокупность свойств, обуславливающих их пригодность удовлетворять определенные потреб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енными характеристиками качества изделий являются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уровень кач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показатели кач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F5E7-3248-4708-92CC-B558E11475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Показатели качест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зделий определяются той или иной совокупностью свойств: физических, геометрических, функциональных, а также технологическими признаками качества, например, отсутствием недопустимых дефектов типа нарушений сплошности, соответствием физико-химических свойств и структуры основного материала и покрытий требованиям НТД и д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D837-09A6-4731-804B-617A5B746B8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Классификация показателей качества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назнач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приспособленности к эксплуатации и сохранению работоспособ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надеж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эргономич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удобства технического обслуживания, ремонта и хран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транспортабель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безопас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рациональности технико-экономических решени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стандартизации и унифик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показатели технологич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конструктивные показател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экономические показате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523B-0B3C-4056-8EB7-C256825413B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Различают показатели качества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динич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мплекс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бщенны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гра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7EBC-94D2-4C70-9C36-FB9EE7C465F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Единич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казатель качества изделия характеризует одно свойство изделия,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комплексны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несколько свойст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обобщенны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казателем качества изделия понимается комплексный показатель  качества, относящийся к такой совокупности свойств изделия, по которой принято для данного изделия оценивать качеств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лексный показатель качества, являющийся отношением суммарного полезного эффекта от эксплуатации изделия и суммарных затрат на его содержание или эксплуатацию, называется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интегральны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казателем качества издел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9532-7DCF-45DA-AAC3-002269955F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Взаимосвязь показателей качеств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250920" y="692280"/>
            <a:ext cx="8569080" cy="5328720"/>
            <a:chOff x="250920" y="692280"/>
            <a:chExt cx="8569080" cy="5328720"/>
          </a:xfrm>
        </p:grpSpPr>
        <p:sp>
          <p:nvSpPr>
            <p:cNvPr id="108" name="Line 5"/>
            <p:cNvSpPr/>
            <p:nvPr/>
          </p:nvSpPr>
          <p:spPr>
            <a:xfrm flipH="1">
              <a:off x="250920" y="5767560"/>
              <a:ext cx="48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2944080" y="692280"/>
              <a:ext cx="29376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казатели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5881680" y="945720"/>
              <a:ext cx="73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2209320" y="945720"/>
              <a:ext cx="73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V="1">
              <a:off x="6616440" y="94536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 flipV="1">
              <a:off x="2209320" y="94536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5147280" y="1707120"/>
              <a:ext cx="293796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мплекс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6823440" y="3229920"/>
              <a:ext cx="199656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нтеграль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4412880" y="3229920"/>
              <a:ext cx="22032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бобще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2209320" y="3229920"/>
              <a:ext cx="19584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Группов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5"/>
            <p:cNvSpPr/>
            <p:nvPr/>
          </p:nvSpPr>
          <p:spPr>
            <a:xfrm flipV="1">
              <a:off x="3188520" y="272196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6"/>
            <p:cNvSpPr/>
            <p:nvPr/>
          </p:nvSpPr>
          <p:spPr>
            <a:xfrm flipV="1">
              <a:off x="5637240" y="272196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7"/>
            <p:cNvSpPr/>
            <p:nvPr/>
          </p:nvSpPr>
          <p:spPr>
            <a:xfrm flipV="1">
              <a:off x="7840440" y="272196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8"/>
            <p:cNvSpPr/>
            <p:nvPr/>
          </p:nvSpPr>
          <p:spPr>
            <a:xfrm>
              <a:off x="3188520" y="2722320"/>
              <a:ext cx="465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9"/>
            <p:cNvSpPr/>
            <p:nvPr/>
          </p:nvSpPr>
          <p:spPr>
            <a:xfrm flipV="1">
              <a:off x="6616440" y="2214360"/>
              <a:ext cx="0" cy="50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0"/>
            <p:cNvSpPr/>
            <p:nvPr/>
          </p:nvSpPr>
          <p:spPr>
            <a:xfrm flipH="1">
              <a:off x="250920" y="1960920"/>
              <a:ext cx="48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1"/>
            <p:cNvSpPr/>
            <p:nvPr/>
          </p:nvSpPr>
          <p:spPr>
            <a:xfrm flipV="1">
              <a:off x="250920" y="1960560"/>
              <a:ext cx="0" cy="38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2"/>
            <p:cNvSpPr/>
            <p:nvPr/>
          </p:nvSpPr>
          <p:spPr>
            <a:xfrm flipH="1">
              <a:off x="3188520" y="44989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3"/>
            <p:cNvSpPr/>
            <p:nvPr/>
          </p:nvSpPr>
          <p:spPr>
            <a:xfrm flipV="1">
              <a:off x="3188520" y="3736800"/>
              <a:ext cx="0" cy="20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4"/>
            <p:cNvSpPr/>
            <p:nvPr/>
          </p:nvSpPr>
          <p:spPr>
            <a:xfrm>
              <a:off x="4412880" y="4244760"/>
              <a:ext cx="2203200" cy="76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lvl="1" marL="173880"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Целевог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3880"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азнач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5"/>
            <p:cNvSpPr/>
            <p:nvPr/>
          </p:nvSpPr>
          <p:spPr>
            <a:xfrm>
              <a:off x="4413960" y="5513760"/>
              <a:ext cx="22032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аде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6"/>
            <p:cNvSpPr/>
            <p:nvPr/>
          </p:nvSpPr>
          <p:spPr>
            <a:xfrm>
              <a:off x="702360" y="5513760"/>
              <a:ext cx="199656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аде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7"/>
            <p:cNvSpPr/>
            <p:nvPr/>
          </p:nvSpPr>
          <p:spPr>
            <a:xfrm>
              <a:off x="740520" y="4244760"/>
              <a:ext cx="1996560" cy="76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179280"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Целевого назнач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 flipH="1">
              <a:off x="250920" y="4498920"/>
              <a:ext cx="48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9"/>
            <p:cNvSpPr/>
            <p:nvPr/>
          </p:nvSpPr>
          <p:spPr>
            <a:xfrm>
              <a:off x="740520" y="1707120"/>
              <a:ext cx="2937600" cy="50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Едини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 flipH="1">
              <a:off x="3188520" y="57675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5:55:47Z</dcterms:created>
  <dc:creator>андрей</dc:creator>
  <dc:description/>
  <dc:language>en-US</dc:language>
  <cp:lastModifiedBy>Kafedra</cp:lastModifiedBy>
  <dcterms:modified xsi:type="dcterms:W3CDTF">2019-09-26T06:39:22Z</dcterms:modified>
  <cp:revision>9</cp:revision>
  <dc:subject/>
  <dc:title>Лекция  № 11 </dc:title>
</cp:coreProperties>
</file>