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7D94-CECC-4A5E-9D76-E86DC9ED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971-8234-482E-9A09-3B672B22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18A-0663-463C-B77D-1A57DD06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50D-7974-4B61-92BF-4D2F4DD1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3C80-D782-4167-BBC7-B79E4970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0C85-2EB7-47A9-B3E4-E729A9C2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1542-BB9D-40EC-8A65-00FCD35D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69AD-C2DF-431D-999D-44D51D29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900D-10EA-4737-BA21-19B4989E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3069-948A-4567-A9C2-A2C4C8A1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F15F-19B2-416D-B351-7B7F38F0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543-A6B2-40E4-9882-147B0B23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1842-1111-4335-9D4B-FC753A8C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FFC0-3CE2-456C-99BC-D5F69740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6E11-B17C-4F50-A46D-4F13C8B0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EA97-2212-4D68-9661-4C7B2E16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F694-C626-4284-B5DC-9C3E4620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CD1-CB96-4435-AC8A-82BD9BB7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447-AFB3-4E73-94F7-F910BD1E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92E-88A8-4B89-8060-82E955DC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686-EC15-4611-B63B-52597D3D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EF93-83AC-4871-AF7B-8A512483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C38-B7A3-48EF-BDEA-F5992929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006-60CB-4EF5-A646-34AEBF0D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C925-0E91-4EA5-A3FF-FBE94AA28FC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0330-E53A-42A3-8EE2-C80B793CC25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15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0560" y="4149720"/>
            <a:ext cx="84992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ОСНОВЫ ТЕХНИЧЕСКОЙ ДИАГНОСТ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Диагностический параметр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это физическая величина, изменяющаяся адекватно (соответственно) структурному параметру, удобная для измерения и используемая для оценки технического состояния маш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60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Параметры рабочих процессов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это параметры, которые определяют собой рабочие функции, ради которых изготовлена данная машина. Применительно к автомобилю, в качестве диагностических используются следующие параметры рабочих процессов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хнико-экономические параметры (динамичность, сила тяги на ведущих колесах, расход топлив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аметры тормозной эффективности (тормозные силы на ведущих колесах, тормозной путь, замедление автомобиля при торможении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аметры ходовых свойств (боковая сила на управляемых колесах, выбег автомобиля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ологические параметры (токсичность отработавших газов, дымность, шум, вибрация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Параметры сопутствующих процессов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80496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авление в рабочих объемах (величина давления, падение давления, перепад давления, пульсация давления и т.д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80496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мпература нагрева поверхности элементов автомобиля (температура, скорость нарастания температуры, разность температур и т.д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80496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ровень вибрации и шума (частота, амплитуда, фаза, интенсивность звука, высота звука, тембр звука, громкость звука и т.д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80496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лектрические и магнитные характеристики и их изменения (сила тока, напряжение, мощность тока, электрическое сопротивление, емкость, магнитная индуктивность, магнитная проницаемость и т.д.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80496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изико-химический состав отработавших эксплуатационных материалов (процент содержания посторонних продуктов в эксплуатационных материалах, таких как моторные и трансмиссионные масла, выхлопные газы, охлаждающая жидкость и т.д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50752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2566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Arial"/>
              </a:rPr>
              <a:t>Физические парамет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спользуемые в диагностик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мобиля, по физической сущности можно разделить на следующие группы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557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825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ометрические (длина, площадь, плоский угол, телесный угол, кривизна линии, кривизна поверхности и др.);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557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825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нематические (время, скорость, ускорение, углова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рость, угловое ускорение, период, частота периодического процесса, фаза, объемный расход);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557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825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тические (масса, сила, давл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33300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По объему и характеру информации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иагностические параметры делятся на: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а)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общие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(интегральные); б) </a:t>
            </a: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поэлементны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Общие параметры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это параметры, характеризующие техническое состояние объекта в целом. Они в большинстве случаев не дают сведений о конкретной неисправности маш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менительно к автомобильному транспорту к ним относятся: мощность на ведущих колесах, мощность двигателя, расход топлива, тормозной путь, вибрация, шум и т.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6633"/>
                </a:solidFill>
                <a:latin typeface="Arial"/>
              </a:rPr>
              <a:t>Поэлементные параметры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это параметры, которые указывают на вполне конкретную неисправность узла или механизма маш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Связь между структурными (U) и диагностическими (S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араметрами может быть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однофакторно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многофакторной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6985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06920" y="367308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функциональной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ависимости каждому значению структурного параметра соответствует конкретное значение диагностического параметра (S = f(u)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3294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стохастической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висимости каждому значению структурного параметра (U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соответствует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иапазон значений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агностического параметра (ΔS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97528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Многофакторная зависимост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сложная зависимость между структурными и диагностическими параметрами. Она представляет собой зависимость одного или нескольких диагностических параметров от одного или нескольких структурных параметров, причем и структурные и диагностические параметры могут быть взаимозависимы между собой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факторная зависимость хорошо выражается структурно – </a:t>
            </a: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следственными схемами</a:t>
            </a:r>
            <a:r>
              <a:rPr b="1" lang="en-US" sz="20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2997360"/>
            <a:ext cx="54720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20640"/>
            <a:ext cx="7113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Учебные вопрос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бщие 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иагностические параме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бор выходных параметров для целей диагнос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факторная зависимость, в ряде случаев, может быть выражена также и через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диагностические матриц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192720" cy="3216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43916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33"/>
                </a:solidFill>
                <a:latin typeface="Arial"/>
              </a:rPr>
              <a:t>Диагностическая матриц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ляет собой двухзнач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гическую модель, описывающую вероятностные связи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ыми и диагностическими парамет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2349000"/>
            <a:ext cx="73454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Garamond"/>
              </a:rPr>
              <a:t>3. Выбор выходных параметров для целей диагностики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, чтобы выходной параметр мог использоваться в качестве диагностического, он должен удовлетворять требованиям </a:t>
            </a:r>
            <a:r>
              <a:rPr b="0" i="1" lang="ru-RU" sz="2000" spc="-1" strike="noStrike">
                <a:solidFill>
                  <a:srgbClr val="006633"/>
                </a:solidFill>
                <a:latin typeface="Arial"/>
              </a:rPr>
              <a:t>однозначности и технологичности</a:t>
            </a:r>
            <a:r>
              <a:rPr b="0" lang="ru-RU" sz="2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ование </a:t>
            </a:r>
            <a:r>
              <a:rPr b="1" i="1" lang="ru-RU" sz="2000" spc="-1" strike="noStrike">
                <a:solidFill>
                  <a:srgbClr val="006633"/>
                </a:solidFill>
                <a:latin typeface="Arial"/>
              </a:rPr>
              <a:t>однозна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аются в том, что все текущие значения диагностических параметров должны однозначно соответствовать значениям структурного параметра в интервале изменения технического состояния объекта диагностирования. Математически это требование определяется условием: </a:t>
            </a:r>
            <a:r>
              <a:rPr b="1" i="1" lang="ru-RU" sz="2000" spc="-1" strike="noStrike">
                <a:solidFill>
                  <a:srgbClr val="006633"/>
                </a:solidFill>
                <a:latin typeface="Arial"/>
              </a:rPr>
              <a:t>dS/dU≠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е. отсутствием перехода функции от возрастания к убыванию или наобор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39607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Технологичность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это возможность измерения выходного параметра с минимальными затратами труда и средст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хнологичность определяется удобством подключения диагностической аппаратуры, простотой измерения и обработки результатов измерения. Характеризуется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трудоемкость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стоимость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диагностир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373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ситуации, когда один и тот же структурный параметр может быть оценен несколькими диагностическими, то выбор производится на основе следующих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свойств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иагностического параметра: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чувствительности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6633"/>
                </a:solidFill>
                <a:latin typeface="Arial"/>
              </a:rPr>
              <a:t>стабильности, информативности и экономичности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Чувствительность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иагностического параметра характеризуется скоростью его приращения (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d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ивается чувствительность коэффициентом чувствительности: 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Кч=dS/dU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5616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Стабильность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иагностического параметра характеризуется наибольшим отклонением его величины от среднего значения, характеризующего рассеивание параметра при неизменных условиях измер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м меньше рассеивание, тем выше стабиль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исходит это в основном из-за ошибки метода диагност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естабильность диагностическог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22936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иагностический параметр № 2 более стабилен, чем диагностический параметр № 1 (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ΔU1&gt;ΔU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64800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Информативность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свойство, характеризующее достоверность диагноза и применяемое для параметров, имеющих многофакторную зависимость между соб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3311280" cy="2071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3600360" cy="2093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4365720"/>
            <a:ext cx="309564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Экономичность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свойство, характеризующее стоимость оценки технического состояния машины с использованием конкретного диагностического параметр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ем меньше стоимость, тем параметр более предпочтителе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. Общие полож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569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Диагноз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в переводе с греческого “диагнозис”) означает распознавание, определение. В медицине это определение состояния человека, в технике - определение состояния технического объе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соответствии с ГОСТ 20911-89 различают понятие диагностики как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трасли знаний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как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бласти практическ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В первом случае используется термин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“техническая диагностика”,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о втором -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“техническое диагностирование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Техническая диагностика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отрасль научно-технических знани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сущность которой составляют теория, методы и средства определения технического состояния объекта в заданный момент времени, обнаружения и поиска его неисправност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Техническое диагностирование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это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процесс определения технического состояния объект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иагностирования с определенной точностью без его разбор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33"/>
                </a:solidFill>
                <a:latin typeface="Arial"/>
              </a:rPr>
              <a:t>Главной задаче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технической диагностики является определение технического состояния объекта (машины) в требуемый момент времен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решении этой задачи, в зависимости от момента времени, при котором требуется определить техническое состояние машины, различают три взаимосвязанных и дополняющих друг друга направлени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-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техническая диагностика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т.е. определение технического состояния машины, в котором она находится в настоящий момент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-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техническая прогностика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т.е. научное предсказание технического состояния машины, в котором она окажется в некоторый будущий момент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-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техническая генетика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т.е. определение технического состояния машины, в котором она находилась в некоторый  момент времени в прошлом (в технической литературе часто вместо термина техническая генетика используется термин –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ретроспекция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537336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правления технической диагност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6804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При разработке теоретических основ в технической</a:t>
            </a:r>
            <a:br>
              <a:rPr sz="2400"/>
            </a:b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диагностике можно выделить следующие этапы: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зучение конструкции машины, и в особенности параметров, характеризующих техническое состояние машин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бор выходных параметров для целей диагностир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строение математической модели изменения технического состояния машины (изменение её структурных и диагностических параметров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ределение нормативных значений диагностических параметр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работка методов, средств и технологии диагностир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работки методики постановки диагноз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2205000"/>
            <a:ext cx="69120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2. Диагностические параметры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7:44:44Z</dcterms:created>
  <dc:creator>андрей</dc:creator>
  <dc:description/>
  <dc:language>en-US</dc:language>
  <cp:lastModifiedBy>RIS</cp:lastModifiedBy>
  <dcterms:modified xsi:type="dcterms:W3CDTF">2013-04-08T06:46:40Z</dcterms:modified>
  <cp:revision>17</cp:revision>
  <dc:subject/>
  <dc:title>Лекция  № 12 </dc:title>
</cp:coreProperties>
</file>