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EA1-7987-4BEE-94BA-0C073DE3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896-3F67-4ACA-9CC6-C52F6298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ED3-0C77-4326-BE26-6A40D513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9EB3-FE72-4AFF-A6EA-4B53F95E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297-5515-4050-9208-C4E8E301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CB0-B4DA-4D1C-823A-1E118CE1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3BC-AD96-42AF-94A2-F0C04D6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427-09C9-4949-8A1C-42BADC5F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7ED-AE62-455D-9205-45FA807B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C08-58ED-4BB1-A990-4C9B21C1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B0C-DFC3-4BBE-9D58-BAB93C05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B11-17A7-4EC6-9984-B69AE61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385-A340-41A9-8D71-93FE519CD825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824C-2401-4AD6-95FE-E608B90C78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</a:t>
            </a:r>
            <a:r>
              <a:rPr b="1" lang="en-US" sz="5000" spc="-1" strike="noStrike">
                <a:solidFill>
                  <a:srgbClr val="006633"/>
                </a:solidFill>
                <a:latin typeface="Arial"/>
              </a:rPr>
              <a:t>6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ритерии надежности невосстанавливаемых систем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A3A-1CBA-4032-B91C-2C4B6259E8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характеризует долю изделий, отказывающих в единицу времени, начиная с момента времен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тнесенную к числу изделий, работоспособных в момент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оценивают по следующей формул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47640" y="4149720"/>
          <a:ext cx="554544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149720"/>
                    <a:ext cx="55454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F86-D4B2-4C47-88DC-8BE08518B4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нсивность отказов и вероятность безотказной работы связаны между собой зависимость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24360" y="2276640"/>
          <a:ext cx="2232000" cy="125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276640"/>
                    <a:ext cx="2232000" cy="12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0" y="28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80" y="376164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FA0-C334-4679-A0C9-FF8924CF31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оказатели надежности невосстанавливаемого элемента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ероятность его безотказной работы в течение времен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ероятность отказа в течение времени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среднее время безотказной работы (средняя наработка до отказа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плотность распределения времени безотказной работ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λ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нтенсивность отказа в момент времен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ʌ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— функция ресурс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рɣ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— гамма-процентный ресурс, представляющий собой суммарную наработку, в течение которой объект не достигнет предельного состояния с вероятностью ɣ, выраженной в процент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AC5-950C-4ACE-A94D-DC7CAFD668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ероятностью безотказной работ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 functio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al functio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называется вероятность того, что в пределах заданной наработки отказ объекта не возникнет, т.е. технический объект не откажет в течение времен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ли что время ξ   работы до отказа технического объекта больше времени его функционирован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(t) = Р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 t)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18A-2FD7-46A0-A87B-2F3DEF149E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Вероятность безотказной работы имеет следующие достоинств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характеризует надежность во времени, являясь интервальной оценко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ределяет многие важные показатели техники, например эффективность, безопасность, живучесть, рис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равнительно просто вычисляется и определяется по статистическим данным об отказах техни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71460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статочно полно характеризует надежность невосстанавливаемой техни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недостат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этого критерия — ограниченность применения. Вероятность безотказной работы характеризует надежность невосстанавливаемой техники или восстанавливаемой до первого ее отка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D9C-E40F-4077-B31F-34149FF245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у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асто назыв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ункцией надежности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Плотность распределения наработки до отказа связана с вероятностью безотказной работы соотношение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статистическим данным об отказах, полученным из эксперимента или эксплуатации, функция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определяется следующей статистической оценк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68360" y="1916280"/>
          <a:ext cx="40323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16280"/>
                    <a:ext cx="40323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24000" y="4797360"/>
          <a:ext cx="4537080" cy="18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453708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A5E-6AFB-45B0-BDF8-48879F81F7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Гамма-процентная наработка до отказ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ile operating time to 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наработка, в течение которой отказ объекта не возникнет с вероятностью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выраженной в процента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редняя наработка до отказа Т</a:t>
            </a:r>
            <a:r>
              <a:rPr b="1" i="1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n operating time to 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применяется к невосстанавливаемым техническим объектам и является численной характеристикой, равной математическому ожиданию наработки объекта от начала эксплуатации до первого отказа; определяется по общему правилу нахождения математического ожидания случайной величин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М(ξ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5F5C-E7FF-484B-BFC4-B2DB790748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редняя наработка на отказ (наработка на отказ) Т</a:t>
            </a:r>
            <a:r>
              <a:rPr b="1" i="1" lang="ru-RU" sz="3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 operating time between failure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применяется для восстанавливаемых объектов и определяется как отношение суммарной наработки восстанавливаемого объекта к математическому ожиданию числа его отказов в течение этой наработ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873-477F-44E9-BDC5-2D4558B102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лотность распределения времени безотказной работы (частота отказ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это плотность распределения случайной величины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аиболее полно характеризует надежность техники в данный момент (точечная характеристика). По ней можно определить любой показатель надежности невосстанавливаемой системы. В этом основное достоинство плотности распределения времени безотказной работ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тистическ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яется отношением числа отказавших образцов техники в единицу времени к числу испытуемых образцов при условии, что отказавшие образцы не восполняются исправным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=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067280" y="4581360"/>
          <a:ext cx="1368360" cy="7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581360"/>
                    <a:ext cx="136836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6EF-2A3A-41F6-8477-B8BC81FC6F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нтенсивность отказов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λ(t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 rat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условная плотность вероятности возникновения отказа объекта, определяемая при условии, что до рассматриваемого момента времени отказ не возн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тенсивность отказов используют для характеристики безотказности невосстанавливаемых технических объектов и определяют как отношение плотности распределения к вероятности безотказной работы объек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87640" y="4149720"/>
          <a:ext cx="230508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4149720"/>
                    <a:ext cx="230508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3CE-27DD-4307-8EDA-6075D5A762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4-03-12T05:05:47Z</dcterms:modified>
  <cp:revision>24</cp:revision>
  <dc:subject/>
  <dc:title>Лекция  № 11 </dc:title>
</cp:coreProperties>
</file>