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34B2-F2D9-41B0-A813-5E15E5706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F38D-9AF1-4221-B09C-8EBE5B41F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F740-6A37-42AB-A1E5-A70F8550D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F0CD-2B42-4A22-B563-3CFB3980D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D675-27E4-4F88-B7ED-AF486584A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3C8B-B162-4CA1-A4E9-DFA452B7F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53C3-ECEB-4538-9F6E-C3FA920C4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0D2F-F1C4-4F26-A411-0EAD29796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75D6-AD34-4F70-AC40-29D447D63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E3B4-B477-4A9B-8BB1-1B886511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33E5-5985-4777-9228-4207EF00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98A6-DC59-487A-AD94-8C71315A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122E4-48FE-4C9C-9049-8774E6260244}" type="datetime">
              <a:rPr b="0" lang="ru-RU" sz="1200" spc="-1" strike="noStrike">
                <a:solidFill>
                  <a:srgbClr val="000000"/>
                </a:solidFill>
                <a:latin typeface="Garamond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89A32-BE56-45D2-B195-8C1424BF13D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Лекция  № 5</a:t>
            </a:r>
            <a:br>
              <a:rPr sz="5000"/>
            </a:b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4000" y="4365360"/>
            <a:ext cx="828180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Arial"/>
              </a:rPr>
              <a:t>Тема</a:t>
            </a:r>
            <a:r>
              <a:rPr b="1" lang="en-US" sz="2800" spc="-1" strike="noStrike">
                <a:solidFill>
                  <a:srgbClr val="006633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казатели надежност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9286-7D6A-4AE8-BFD2-73A64FA1539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6633"/>
                </a:solidFill>
                <a:latin typeface="Arial"/>
              </a:rPr>
              <a:t>Долговечность</a:t>
            </a: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urability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ngevity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 — это свойство объекта сохранять работоспособное состояние до наступления предельного состояния при установленной системе технического обслуживания и ремонт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6633"/>
                </a:solidFill>
                <a:latin typeface="Arial"/>
              </a:rPr>
              <a:t>Сохраняемость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orability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 — это свойство объекта сохранять в заданных пределах значения параметров, характеризующих способности объекта выполнять требуемые функции в течение и после хранения и (или) транспортирова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3A02-F073-4E59-84C8-F56CB23AE61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8360" y="428400"/>
            <a:ext cx="8532720" cy="57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о области использования показатели надежности могут подразделяться на 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нормативные и оценочные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6633"/>
                </a:solidFill>
                <a:latin typeface="Arial"/>
              </a:rPr>
              <a:t>Нормативным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называют показатели надежности, регламентированные в нормативно- технической или конструкторской документаци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6633"/>
                </a:solidFill>
                <a:latin typeface="Arial"/>
              </a:rPr>
              <a:t>оценочным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относятся показатели, используемые для различных сравнительных оценок при научно-исследовательских и проектно-технологических разработках. К оценочным относятся фактические значения показателей надежности опытных образ­цов и серийной продукции, получаемые по результатам испытаний по данным эксплуатаци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DB47-3075-4D97-8A2A-5AD317B12C5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35344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 области распространения показатели надежности подразделяются на 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индивидуальные и групповы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000" spc="-1" strike="noStrike">
                <a:solidFill>
                  <a:srgbClr val="006633"/>
                </a:solidFill>
                <a:latin typeface="Arial"/>
              </a:rPr>
              <a:t>индивидуальным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относятся такие показатели надежности, используя которые можно по результатам испытаний или эксплуатации делать вывод о соответствии или не соответствии данного объекта регламентированным требованиям по надежност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8BB2-478D-4D6E-ADF8-A88687E4238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539640" y="9079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казатели, на основе которых вывод о соответствии регламентированным требованиям можно делать только относительно некоторой совокупности (партии) изделий, называют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000" spc="-1" strike="noStrike">
                <a:solidFill>
                  <a:srgbClr val="006633"/>
                </a:solidFill>
                <a:latin typeface="Arial"/>
              </a:rPr>
              <a:t>групповыми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Как правило, индивидуальные показатели надежности являются одновременно и нормативны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E10F-A660-4B6D-B9CB-DD7825140C9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763280" y="0"/>
            <a:ext cx="52578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оменклатура показателей надежности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03280" y="333360"/>
            <a:ext cx="5477040" cy="6524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C648-D851-4D69-B9E1-C50F3B62EC4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826920" y="475200"/>
            <a:ext cx="7417080" cy="253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33"/>
                </a:solidFill>
                <a:latin typeface="Arial"/>
              </a:rPr>
              <a:t>Показатель надежност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ability measur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— количественная характеристика одного или нескольких свойств, составляющих надежность объек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3065400"/>
            <a:ext cx="7777080" cy="302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начения показателей надежности могут быть нормативными и фактическими и определяться расчетным методом (</a:t>
            </a:r>
            <a:r>
              <a:rPr b="0" lang="en-US" sz="2400" spc="-1" strike="noStrike">
                <a:solidFill>
                  <a:srgbClr val="006633"/>
                </a:solidFill>
                <a:latin typeface="Arial"/>
              </a:rPr>
              <a:t>расчетный показатель надежн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по данным испытаний (</a:t>
            </a:r>
            <a:r>
              <a:rPr b="0" lang="en-US" sz="2400" spc="-1" strike="noStrike">
                <a:solidFill>
                  <a:srgbClr val="006633"/>
                </a:solidFill>
                <a:latin typeface="Arial"/>
              </a:rPr>
              <a:t>экспериментальный показател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по данным эксплуатации (</a:t>
            </a:r>
            <a:r>
              <a:rPr b="0" lang="en-US" sz="2400" spc="-1" strike="noStrike">
                <a:solidFill>
                  <a:srgbClr val="006633"/>
                </a:solidFill>
                <a:latin typeface="Arial"/>
              </a:rPr>
              <a:t>эксплуатационный показател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или путем экстраполирования (</a:t>
            </a:r>
            <a:r>
              <a:rPr b="0" lang="en-US" sz="2400" spc="-1" strike="noStrike">
                <a:solidFill>
                  <a:srgbClr val="006633"/>
                </a:solidFill>
                <a:latin typeface="Arial"/>
              </a:rPr>
              <a:t>экстраполированный показател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925A-CBE2-4B8D-BF99-B71519FE48F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1438560"/>
            <a:ext cx="8280360" cy="411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показателей надежности используются две формы представления: </a:t>
            </a: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вероятностная</a:t>
            </a:r>
            <a:r>
              <a:rPr b="0" lang="en-US" sz="2400" spc="-1" strike="noStrike">
                <a:solidFill>
                  <a:srgbClr val="006633"/>
                </a:solidFill>
                <a:latin typeface="Arial"/>
              </a:rPr>
              <a:t> и </a:t>
            </a: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статистическа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33"/>
                </a:solidFill>
                <a:latin typeface="Arial"/>
              </a:rPr>
              <a:t>Вероятностная</a:t>
            </a: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орма обычно бывает удобнее при априорных аналитических расчетах надеж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6633"/>
                </a:solidFill>
                <a:latin typeface="Arial"/>
              </a:rPr>
              <a:t>Статистическа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— при экспериментальном исследовании надежности технических систем. Кроме того, оказывается, что одни показатели лучше интерпретируются в вероятностных терминах, а другие — в статистическ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B694-DE5B-4E5E-852F-DB5A78929E6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366640" y="1531800"/>
            <a:ext cx="2878200" cy="42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ификация показателей надежност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632720" cy="4435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311560" y="46843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476360" y="476280"/>
          <a:ext cx="6480360" cy="455760"/>
        </p:xfrm>
        <a:graphic>
          <a:graphicData uri="http://schemas.openxmlformats.org/drawingml/2006/table">
            <a:tbl>
              <a:tblPr/>
              <a:tblGrid>
                <a:gridCol w="6480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сификация показателей надеж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3078360" y="4836600"/>
            <a:ext cx="18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671C-C11B-4243-AE23-21DB3D9714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28400" y="285480"/>
            <a:ext cx="85359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уществуют комплексные показатели, характеризующие несколько свойств, составляющих надежность объект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6633"/>
                </a:solidFill>
                <a:latin typeface="Arial"/>
              </a:rPr>
              <a:t>Единичный показатель надежности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mple reliability measure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) — показатель надежности, характеризующий одно из свойств, составляющих надежность объект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6633"/>
                </a:solidFill>
                <a:latin typeface="Arial"/>
              </a:rPr>
              <a:t>Комплексный показатель надежности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egrated reliability measure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) — показатель надежности, характеризующий несколько свойств, составляющих надежность объект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DA82-A10A-45C9-A0C6-36BBE4A7D59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6633"/>
                </a:solidFill>
                <a:latin typeface="Arial"/>
              </a:rPr>
              <a:t>Расчетный показатель надежност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dicted reliability measure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 — показатель надежности, значения которого определяются расчетным методо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6633"/>
                </a:solidFill>
                <a:latin typeface="Arial"/>
              </a:rPr>
              <a:t>Экспериментальный показатель надежност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sessed reliability measure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 — показатель надежности, точечная или интервальная оценка которого определяется по данным испытани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6633"/>
                </a:solidFill>
                <a:latin typeface="Arial"/>
              </a:rPr>
              <a:t>Эксплуатационный показатель надежност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served reliability measure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 — показатель надежности, точечная или интервальная оценка которого определяется по данным эксплуатац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677E-DF7A-43DE-B02B-65A4E50C86A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55280" y="691920"/>
            <a:ext cx="7777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Экстраполированный показатель надежности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trapolated reliability measure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 — показатель надежности, точечная или интервальная оценка которого определяется на основании результатов расчетов, испытаний и (или) эксплуатационных данных путем экстраполирования на другую продолжительность эксплуатации и другие условия эксплуатац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7429-D5DB-41D7-A364-2F3387A618A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71680" y="357120"/>
            <a:ext cx="807228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00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6912000" cy="2481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"/>
          <p:cNvGraphicFramePr/>
          <p:nvPr/>
        </p:nvGraphicFramePr>
        <p:xfrm>
          <a:off x="1187280" y="404640"/>
          <a:ext cx="6697800" cy="820800"/>
        </p:xfrm>
        <a:graphic>
          <a:graphicData uri="http://schemas.openxmlformats.org/drawingml/2006/table">
            <a:tbl>
              <a:tblPr/>
              <a:tblGrid>
                <a:gridCol w="66978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ассификация свойств надежности машин и их элемент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1800" y="3309480"/>
            <a:ext cx="18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56EB-8831-41A4-A49A-8283249693B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дежность в общем случае — комплексное свойство, включающее такие понятия, как </a:t>
            </a: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безотказность,долговечность, ремонтопригодность, сохраняемость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ля конкретных объектов и условий их эксплуатации эти свойства могут иметь различную относительную значимост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440" indent="4622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6633"/>
                </a:solidFill>
                <a:latin typeface="Arial"/>
              </a:rPr>
              <a:t>Безотказность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liability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ilure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ee operation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 — это свойство объекта непрерывно сохранять работоспособное состояние в течение некоторого времени или наработк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440" indent="4622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6633"/>
                </a:solidFill>
                <a:latin typeface="Arial"/>
              </a:rPr>
              <a:t>Ремонтопригодность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intainability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 — это свойство объекта, заключающееся в приспособленности к поддержанию и восстановлению работоспособности состояния путем технического обслуживания и ремонт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941B-B476-4217-B7EF-5988EFB775F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05:55:47Z</dcterms:created>
  <dc:creator>андрей</dc:creator>
  <dc:description/>
  <dc:language>en-US</dc:language>
  <cp:lastModifiedBy>RIS</cp:lastModifiedBy>
  <dcterms:modified xsi:type="dcterms:W3CDTF">2013-02-11T09:07:12Z</dcterms:modified>
  <cp:revision>21</cp:revision>
  <dc:subject/>
  <dc:title>Лекция  № 11 </dc:title>
</cp:coreProperties>
</file>