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753-60C6-45F4-8632-5E3E3C92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6068-F7FA-4B08-8917-6C853291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7D9-8C25-498F-883B-769EC5F6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6C5-A2EA-4108-8CA6-2ABC2710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9FC2-4857-48E7-8948-B5AFE4D3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378A-697C-4F3D-8214-3A8D78B4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F882-C23B-45A2-B5DB-88559B00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D2D2-AECF-442F-B308-F851F120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B69B-E7C7-461D-9722-85278001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B5A0-ECF9-40B6-AFA2-1D51F9B3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7267-3604-4961-8063-10B40BE9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82C-510E-4483-9241-0708A477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4B42-39C8-46AC-9D11-23DBA161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C0D4-4319-4F59-92E5-3E23ABC4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9AAF-AB63-4FBF-87AA-D8B14BBE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C2B8-AFE2-43F8-AF60-282C1924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EC45-3CB8-440C-B8E7-83B83789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004-0926-462D-95D3-2A020E0F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2996-59AA-4FCE-8B9A-CCE33E3A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415-BBBE-47A6-9CE9-A4A6519B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7CFE-F29F-48F1-8260-F0275846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5F96-4B89-4B7C-8CA5-2119B964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A01-89A8-4E7B-BE64-204F3B74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A28-5EBE-45F0-9357-39568A5A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A0CE-4E74-445E-91B9-CB30156B22DF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442B-3B12-4963-9632-B3D00832F58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EDE3-28B0-4699-BF49-5845317F7D45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B2C9-FBCB-4F02-BE8B-7CF6692A29C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F560-596F-4556-AAB0-4C95DE73B87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Лекция  № 4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ы и характеристика отказов технических систе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97F8-019C-4A75-A41B-45BAB8D6649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По характеру возникновения различают отказы внезапные, постепенные и перемежающиеся.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4200" y="1356840"/>
            <a:ext cx="8786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незапный отка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den fail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характеризуется резким из­менением одного или нескольких заданных параметров объекта. Примером внезапного отказа является нарушение работоспособности системы зажигания или системы питания двиг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степенный отка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ual fail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характеризуется постепен­ным изменением одного или нескольких заданных параметров объекта. Характерным примером постепенного отказа является нарушение работоспособности тормозов в результате износа фрикцион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еремежающийся отказ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ittent fail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— многократно возникающий сбой одного и того же характера. Примером пере­межающегося отказа может служить ухудшение мощностных и топливно-экономических показателей двигателя из-за появления нагара в головке блока цилиндров. Этот отказ часто самоустраняется при длительной работе машины в тяжелом нагрузочном режиме. Другим характерным примером перемежающегося отказа является временное нарушение работоспособности двигателя из-за случайного попадания воды в бенз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ACAE-72FE-4D78-89B6-4811D20D963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7120" y="856800"/>
            <a:ext cx="84297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5490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возможности дальнейшего использования объекта отказы могут быть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ол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частичн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5490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Полный отказ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ключает возможность работы объекта до его устран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5490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возникновении 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частичного отказа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ъект может частично использовать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5490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E579-E377-453C-A26A-9F0CDCFF0C1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14200" y="428400"/>
            <a:ext cx="8786880" cy="57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признаку легкости обнаружения отказы бывают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очевидные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явные) и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скрыты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(неявные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времени возникновения отказы подразделяются на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приработочные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озникающие в начальный период эксплуатации,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отказы при нормальной эксплуатации, износовые отказы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ызванные необратимыми процессами износа деталей, старения материалов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EF53-19DC-465B-B7A6-E1A28F3DE9A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28760" y="0"/>
          <a:ext cx="8358120" cy="719280"/>
        </p:xfrm>
        <a:graphic>
          <a:graphicData uri="http://schemas.openxmlformats.org/drawingml/2006/table">
            <a:tbl>
              <a:tblPr/>
              <a:tblGrid>
                <a:gridCol w="8358120"/>
              </a:tblGrid>
              <a:tr h="719280">
                <a:tc>
                  <a:txBody>
                    <a:bodyPr lIns="0" rIns="0" tIns="131040" bIns="1310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еречень характерных отказов самолета и его элеме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"/>
          <p:cNvSpPr/>
          <p:nvPr/>
        </p:nvSpPr>
        <p:spPr>
          <a:xfrm>
            <a:off x="574560" y="765000"/>
            <a:ext cx="85694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) трещины, деформации и разрушения, вызванные действием многократно повторяющихся в эксплуатации нагрузок и случаями чрезмерного нагружения летательного аппарата в эксплуатации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) коррозия н разрушения лакокрасочных и других видов защитных покрытий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) износ и люфты подвижных соединений, ослабление болтовых соединений, заклепочных швов, потертости элементов конструкции и другие виды механического износа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) старение деталей, изготовленных из органических материалов (стекла, пластмассы и др)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5) механические повреждения, вызванные небрежностью при техническом и коммерческом обслуживаниях, ремонте и другими случая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F550-A855-42B5-BD1B-B63F08F1741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395280" y="1628640"/>
            <a:ext cx="811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повышения и поддержания надёжности подразделяется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нструкторск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ехнологическ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ксплуатацио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395280" y="549360"/>
            <a:ext cx="81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 МЕТОДЫ ПОВЫШЕНИЯ И ПОДДЕРЖАНИЯ НАДЁЖНОСТИ МАШ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77BD-4135-4D95-8F80-A984B91DDE6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539640" y="40464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сить надёжность машины при её конструировании возможно либо путём создания новой конструкции машины, либо путём усовершенствования действу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514440" y="155736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оздание новой конструкции машин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то один из основных путей повышения её надежности. Путём создания новой машины идут многие конструкторы. Если не удаётся сконструировать принципиально новую машину, то идут путём создания принципиально новых агрегатов, узлов и деталей для неё. Важным при создании новой машины является её повышенная надёжность по сравнению с предыдущей мод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611280" y="3308400"/>
            <a:ext cx="8327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усовершенствованием действующей модел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рукторы работают практически постоянно. По мере получения данных о надёжности машины конструкторы определяют «узкие» места в ней, т. е. определяют узлы, агрегаты, детали с наименьшей надёжностью; анализируют отказы этих элементов и разрабатывают конструктивные мероприятия по повышению их надёж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A119-39FE-453F-B89E-013B7B2126C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539640" y="40464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общими и часто применяемыми методами повышения надёжности элементов машины на стадии проектирования или усовершенствования являются методы резерв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ают следующие методы резервир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прочност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структур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539640" y="256536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очностное резервиров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ется в основном для механических систем, в том числе и для самолета. Для повышения надежности машин в этом случае используют принцип избыточности. Суть его состоит в том, что запас надежности повышается за счет удаления области состояний изделия в эксплуатации от предельных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539640" y="429264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труктурное резервиров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лючатся в создании в конструкции машин дублирующих элементов. При выходе из строя одного из элементов машины дублёр выполняет его функции, и машина остаётся работоспособной, т.е. не прекращает свое работы. Это позволяет уменьшить вероятность отказа машины сразу на несколько поряд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26EE-B243-4CD1-8393-0997B9DFF89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14360" y="765000"/>
            <a:ext cx="8496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хнической литературе структурное резервирование часто называют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резервированием методом замещ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езервирование замещение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ервирование замещением подразделяются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резервирование с не нагруженным резерв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резервирование с нагруженным резер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ашиностроении различают ещё и особые виды резервирования,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частичное резерв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гда резервные агрегаты используются как рабочие в часы «пи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словное резервир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ниженными показателями, когда резерв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хранение работоспособности, но с пониженными показател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облегченное резерв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гда резервные элементы до момента включения находятся в облегченном режиме работы и вероятность их отказа в этот период м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BB59-41BA-4439-8721-FC8E8D44222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Учеб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ход объекта в различные состоя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ы повышения и поддержания надёжности маш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A4CE-B47E-4D5F-9E44-04546163C2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6760" y="213840"/>
            <a:ext cx="857268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ход изделия из работоспособного состояния в неработоспособное осуществляется при наступлении такого события, как отк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вреждени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ag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событие, заключающееся в нарушении исправного состояния объекта при сохранении его работоспосо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тк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событие, заключающееся в нарушении работоспособного состояния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терий отказ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criter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признак или нарушения работоспособного состояния объекта, установленные в нормативно-технической и(или) конструкторской докумен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97AC-FF86-4211-B950-18026E01666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21384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Восстановлени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toration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overy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— это процесс перевода объекта в работоспособное состояние из неработоспособного состоян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Авария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— событие, заключающееся в переходе объекта с одного уровня работоспособности или относительного уровня функционирования на другой, существенно более низкий, с крупным нарушением режима работы объекта. Авария может привести к частичному или полному разрушению объекта, созданию опасных условий для человека и окружающей сре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A39A-B64D-4B8F-AC4C-684E770E861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71680" y="357120"/>
          <a:ext cx="8072280" cy="549360"/>
        </p:xfrm>
        <a:graphic>
          <a:graphicData uri="http://schemas.openxmlformats.org/drawingml/2006/table">
            <a:tbl>
              <a:tblPr/>
              <a:tblGrid>
                <a:gridCol w="807228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лассификация отказ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8570880" cy="4643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4481640" y="-321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F95F-594D-4401-8A63-59E3B279F2D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Явный отказ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failu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отказ, обнаруживаемый визуально или штатными методами и средствами контроля и диагностирования при подготовке объекта к применению или в процессе его применения по назнач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крытый отказ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t failu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— отказ, не обнаруживаемый визуально или штатными методами и средствами контроля и диагностирования, но выявляемый при проведении технического обслуживания или специальными методами диагнос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C9A9-BCEB-4EB2-8A6B-C23C3A230DA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7120" y="213840"/>
            <a:ext cx="82296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Сбой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ruption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— самоустраняющийся отказ или однократный отказ, устраняемый незначительным вмешательством оператор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Ресурсный отказ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rginal failure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— отказ, в результате которого объект достигает предельного состоян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Независимый отказ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mary failure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— отказ, не обусловленный другими отказам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Arial"/>
              </a:rPr>
              <a:t>Зависимый отказ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ary failure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) — отказ, обусловленный другими отказам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AD16-61C9-4F68-85D0-DB53CF49B1C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42560" y="571320"/>
            <a:ext cx="86583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нструктивные отказы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fail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возникшие в результате нарушения установленных правил констру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оизводственные отказы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ing fail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причиной возникновения которых является нарушение установленного процесса изготовления или ремонта издел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ксплуатационные отказы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use fail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handling fail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причиной возникновения которых является нарушение установленных правил или условий эксплуатации ма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еградационный отказ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 fail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ing fail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— отказ, обусловленный естественными процессами старения, изнашивания, коррозии и усталости при соблюдении всех установ­ленных правил и (или) норм проектирования, изготовления и эксплуа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428760" y="21420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зависимости от причин возникновения отказа разли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B56B-D548-4A0A-A852-473B393FFB9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По своей природе отказы могут быть: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случайные,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условленные непредусмотренными перегрузками, дефектами материала, ошибками персонала, сбоями системы управления и т.п.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систематические,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условленные закономерными явлениями, вызывающими постепенное накопление повреждений: усталость, износ, старение, коррозия материалов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Решенкин А.С.</cp:lastModifiedBy>
  <dcterms:modified xsi:type="dcterms:W3CDTF">2019-10-24T05:35:22Z</dcterms:modified>
  <cp:revision>18</cp:revision>
  <dc:subject/>
  <dc:title>Лекция  № 11 </dc:title>
</cp:coreProperties>
</file>