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755-332F-446F-96BD-CE17E5CE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E29-4F00-4299-B0F2-1DCF4EE0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74D-D477-45BD-A4F5-11BC80B8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A2B-F190-44DD-87ED-17B15F70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C08A-10BF-49B4-940D-259BEC01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BD1F-9370-4941-B397-AC25ACD5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F38A-2743-4F92-9D6C-0712CEA2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E140-ABA3-464E-8C42-7949EEBF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8B41-3906-4ABF-ADE3-B78EC48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8128-EED0-4311-A7AE-FBDC2015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F48A-3B4B-4D25-86E1-3C5F012A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03E-5B04-4979-AF99-61E82009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1C7A-4A78-4D91-95E7-636A7C1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D411-96F9-48D9-ACF3-66967239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619F-43D4-4530-8381-619E07D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0481-A979-4627-B019-871CA899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952F-7348-48D8-9B54-D91B4D64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2D13-8B28-43E0-BBBC-CF8CC26B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7CF-AE40-421B-8B97-1D0BEE11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050-81D8-4DB2-B5A5-0229AA68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18A6-7D52-42B5-B3D8-6FE9DAEF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A12-CA59-4995-BF35-E957CFA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73A-2220-420B-996D-BBB2E24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76BE-EE50-4C5C-AFCA-5CFB9E9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086E-EDB0-4927-A327-5540D84B90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0001-27EE-4CA1-A913-03470459D3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4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000" y="4149720"/>
            <a:ext cx="8281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изическая сущность процессов изменения надежности конструктивных элементов автомобилей при их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Наиболее типичными являются следующие виды дефектов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очечные дефекты (вакансии, межузельные атомы и др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омерные (линейные) дефекты (дислокации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вумерные поверхностные дефекты (границы зерен и двойников, дефекты упаковки и др.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хмерные (объемные) дефекты (пустоты, включения и др.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Процессы механического разрушения твердых тел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корость процессов механического разрушения деталей зависит от структуры и свойств материала, геометрической формы и состояния поверхности, от напряжения, вызываемого нагрузкой и температурой. В настоящее время экспериментально получена зависимость между ресурсом материала, напряжением и температуро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71640" y="2781360"/>
          <a:ext cx="2880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781360"/>
                    <a:ext cx="2880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9280" y="3949560"/>
            <a:ext cx="8713800" cy="26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аработка до отказа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параметр, совпадающий по значению с периодом собственных тепловых колебаний атомов в кристаллической решетке твердого тела (τ0 = 10-12... 10-14 с), постоянный для всех материалов и не зависящий от обработки материала и условий нагрузки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начальная энергия активации процесса разрушения пр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σ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стоянная для данного матери­ала в широкой области температур и не зависящая от обработки материала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энергия активации разруш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характеристика чувствительности материала к напряжению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ая газовая постоянная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темпе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Старение материалов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ением материалов называются процессы изменения их физико-механических свойств во времени в условиях длительного хранения или эксплуат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ение материала может приводить как к улучшению, так и к ухудшению отдельных свойств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 старению металлов и сплавов следует относить все процессы изменения во времени их свойств, связанные с превращениями металлов и сплавов в тверд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Эти процессы можно разделить на дв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вращения, связанные только с изменением кристаллической структуры, протекающие без изменения химического состава образующихся при превращении фа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46224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вращения, сопровождающиеся образованием фаз с измененным химическим соста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3. Отказы по параметрам прочност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808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Прочность 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свойство материала (в определенных условиях и пределах) сопротивляться разрушению, а также изменению формы под действием внешних или внутренних нагрузок. Параметрами прочности являются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пределы прочности, пропорциональности, текучести, ползучести, выносливости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3808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Деформация —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это изменение формы или размеров изделия или его части под действием внешних сил, при нагревании, охлаждении, изменении влажности и т.п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личают два вида деформации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упругую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счезающую после устранения воздействий, вызвавших деформацию, и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пластическую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стающуюся после удаления нагруз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ля характеристики надежности по параметрам прочности нередко используется термин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прочностная надежность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од этим термином понимается свойство машин, конструкций и их элементов сохранять во времени работоспособное состояние при воздействии на него внешних нагрузо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казы по параметрам прочности чаще всего связаны с изломом деталей машин или элементов конструкций или их деформацией.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Изломы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разделяются на две большие группы: 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хрупкие и вязк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хрупким</a:t>
            </a: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ломом понимают излом без признаков макроскопических пластических деформац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Пластическому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вязкому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злому предшествует макроскопическая пластическая деформация, вызванная сдвигом в плоскостях скольжения или плоскостях скола и по границам зере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работе изделий в условиях высоких температур важной характеристикой прочностной надежности является ресурс по ползуч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Ползуче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— это явление, заключающееся в том, что металл, нагруженный при высокой температуре, непрерывно деформируется под воздействием постоянных во времени напря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 многократно повторяющихся температурных напряжениях наблюдаетс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33"/>
                </a:solidFill>
                <a:latin typeface="Arial"/>
              </a:rPr>
              <a:t>термическая (малоцикловая) усталос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еталла. Ползучесть и термическая усталость, как правило, взаимодействуют друг с другом и оба вида этих разрушений происходят одновремен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Виды изнашивания деталей автомобиля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5596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Диаграмма изнашивания и методы измерения износа деталей автомобиле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5256360" cy="323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95280" y="4437000"/>
          <a:ext cx="8280360" cy="1738440"/>
        </p:xfrm>
        <a:graphic>
          <a:graphicData uri="http://schemas.openxmlformats.org/drawingml/2006/table">
            <a:tbl>
              <a:tblPr/>
              <a:tblGrid>
                <a:gridCol w="8280360"/>
              </a:tblGrid>
              <a:tr h="193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приработки;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</a:t>
                      </a:r>
                      <a:r>
                        <a:rPr b="0" i="1" lang="ru-RU" sz="1800" spc="-1" strike="noStrike" baseline="-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стабильного или нормальног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я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период предельного изнашивани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ускоренног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ния д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ического износа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изнашивание после критического износа); α —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ол,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зующий наклон касательной к графику, характеризующи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п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нашивания; И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начальный износ; И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критический из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425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4. Наиболее распространенные способы и методы обеспечения и прогнозирования надежности, используемые при создании машин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ричины потери работоспособности и виды повреждений элементов маш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изико-химические процессы разрушения материал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Отказы по параметрам прочност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иболее распространенные способы и методы обеспечения и прогнозирования надежности, используемые при создании маши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сновными способами обеспечения надежности технических систем являются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нструктив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хнологические (при проектировании и изготовлении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ксплуатационные (при эксплуатации)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Современные методы прогнозирования могут быть разделены на три основные группы: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методы экспертных оцено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методы моделирования, включающие физические, физико-математические и информационные моде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640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Arial"/>
              </a:rPr>
              <a:t>статистические мет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Методы экспертных оцен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заключаются в обобщении, статис­тической обработке и анализе мнений специалистов относительно перспектив развития данной облас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Методы моделирован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базируются на основных положениях теории подоб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6633"/>
                </a:solidFill>
                <a:latin typeface="Arial"/>
              </a:rPr>
              <a:t>Статистические метод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рогнозирования основаны на экстраполяции и интерполяции прогнозируемых параметров надежности, полученных в результате предварительных исследований. В основу этих методов положены закономерности изменения параметров надежности машин во време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06920" y="367308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6518" t="3525" r="10591" b="13931"/>
          <a:stretch/>
        </p:blipFill>
        <p:spPr>
          <a:xfrm>
            <a:off x="395280" y="0"/>
            <a:ext cx="8280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8353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ричины потери работоспособности и виды повреждений элементов машин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569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чины отказа — это явления, процессы, события и состояния, обусловившие возникновение отказа объек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остояниями объектов, являющимися причиной отказов, могут бы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сутствие защиты от попадания пыли и влаг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ичие остаточных напряжений или концентраторов напряж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40" indent="381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кро- и микротрещины, дефекты сборки, наличие рисок и т.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Garamond"/>
              </a:rPr>
              <a:t>В сфере производства отказы возникают в результате несовершенства или нарушения установленного процесса изготовления или ремонта объекта, выполнявшегося на ремонтном предприятии. К наиболее типичным дефектам технологии следует отнести: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из-за неправильного состава материала (включения, примеси, повышающие хрупкость и т.д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при плавке и изготовлении заготовок (пористость, усадочные раковины, неметаллические включения, расслоен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шибки при механической обработке (ожоги, задиры, заусенцы, трещины, прорезы, избыточная локальная пластическая деформа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сварки (трещины, остаточные напряжения, углубления, недостаточная глубина шва, термическое повреждение отдельных участков основного материала и т.д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термообработки (перегрев, закалочные трещины, обезуглероживание, избыточные остаточные аустениты и др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при обработке поверхностей (химическая диффузия, водородное охрупчивание, снижение механических свойств материала и др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ефекты сборки (повреждения поверхностей, задиры, внесение абразива, несоответствие размеров деталей и др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Garamond"/>
              </a:rPr>
              <a:t>К эксплуатационным относятся отказы, возникшие в резуль­тате нарушения установленных правил и (или) условий эксплуатации объекта (неправильное техническое обслуживание, низкое качество запасных частей, появление перегрузок, использование не по назначению и т.д.)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2636640"/>
            <a:ext cx="878544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исследовании причин отказов в первую очередь должен быть проведен анализ режимов и условий эксплуатации и действующих нагрузок. Нагрузки, воздействующие на технические устройства, могут быть подразделены на две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грузки, обусловленные внешними воздействующими факторами (ВВФ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грузки, обусловленные функционированием самого издел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. Физико-химические процессы разрушения материалов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90560" y="90756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68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Физико-химические процесс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приводящие к отказам, могут быть классифицированы на группы в зависимости от вида материала, места протекания процесса, вида энергии, определяющего характер процесса, вида эксплуатационного воздействия характера (внутреннего механизма) процесс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5T07:44:46Z</dcterms:modified>
  <cp:revision>10</cp:revision>
  <dc:subject/>
  <dc:title>Лекция  № 12 </dc:title>
</cp:coreProperties>
</file>