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CB0F-81C3-4358-9567-80B3E731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F11-961E-45FD-A2CE-C95F9D33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6DC3-06BF-4AF4-BF25-429F7440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E3E-87F0-4890-9DE6-A52AD72F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8C4C-A013-4215-8222-2632F354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4947-1D92-4B5A-AAF7-885DBE5B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5343-A9C7-4A07-BE2A-23D19AB3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3806-7B00-4AE6-98DE-CE961AA9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5C8C-66F1-43D7-8AA8-BB6EDC38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001A-7745-493E-838E-FD50BDCA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AE65-87E2-4A32-A1A5-10DED886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86B-A9EE-4FDA-8129-1A8AE78E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8D2E-38E1-4DC3-A046-90B43C19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7879-342C-4DDC-96C4-C14FBE1B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6F39-3ED5-4A53-98F0-239A1718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92E3-8EEB-4E9D-B34C-F6551F21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6D9E-D4FB-4117-BEBE-F2D8149A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396-69C1-430E-9588-ACEF00C2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401-9E67-48A8-B5C7-22DDE428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169C-D0C6-4410-860C-0699FD57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9A9-72CE-4A50-A118-447613C5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B56-EDE1-4505-BFE3-909AFDE0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6BB-82E3-479C-BC00-9A3B2115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1168-96AA-4C3B-B6B9-36200B76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C9B5-76B4-4A27-BFD7-83F17D496D0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BB02-E7AD-419E-806F-AB9EACBFF75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Лекция  № 13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000" y="4365360"/>
            <a:ext cx="8281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“Управление качеством и надежностью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Повышение надежности проектируемой техники достигается следующими мероприятиями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прощением схемных решен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бором наиболее надежных комплектующих элементов и других технических издел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зработкой схем с ограниченными последствиями отказов изделий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Повышение надежности проектируемой техники достигается следующими мероприятиями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нижением механических нагрузок, облегчением электрического, теплового и других режимов работы издел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менением резервных элементов и подсистем, механизмов, блоков и др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андартизацией и унификацией комплектующих элементов и изделий в цел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менением элементов и объектов встроенного контрол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втоматизацией проверок и оценок технического состояния исследуемых объек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В техническом задании заказчика на разработку образцов техники задаются: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требуемая вероятность безотказной работы объекта при выполнении поставленной задачи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( t 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) наработка на отказ  t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) требуемое значение коэффициента готовности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) средние квадратические отклонени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вероятности безотказной работы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σ(Р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работки на отказ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σ(Т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среднего времени восстановления работоспособного состояния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σ(Т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Предприятием-разработчиком определяются следующие исходные данные: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интенсивность отказов изделий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время работы элементов, составных частей в составе изделия при выполнении им поставленной задачи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среднее время восстановления работоспособного состояния изделий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средние квадратические откло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интенсивности отказов изделий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σ (λ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реднего времени восстановления работоспособного состояни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σ(Т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коэффициент эксплуатаци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К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э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учитывающий влияние механических перегрузок (вибраций, ударов, линейных ускорений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) коэффициенты, учитывающие влияние температуры окружающей среды, электрические нагрузки, влияние влажности на негерметизированную влагонезащищенную аппаратуру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аспределение показателей надежности может производиться между агрегатами, системами и машинами комплекса, совместно выполняющими поставленную задачу, и между отдельными составными частями (сборочными единицами) агрегатов, маш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348000" y="3855960"/>
                <a:ext cx="287964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Σ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Σ</m:t>
                                </m:r>
                              </m:sub>
                            </m:sSub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Значения показателей надежности, заданные в ТЗ, могут быть распределены между составными частями машин, агрегатов следующими методам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методом весовых коэффициент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методом минимальных затрат на изготовление агрегата.</a:t>
            </a: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Метод весовых коэффициентов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ероятность отказа </a:t>
            </a:r>
            <a:r>
              <a:rPr b="0" i="1" lang="ru-RU" sz="30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й системы (сборочной единицы) 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ru-RU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t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есть функция, зависящая от интенсивности отказов 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λ</a:t>
            </a:r>
            <a:r>
              <a:rPr b="1" i="1" lang="ru-RU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времени работы 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1" i="1" lang="ru-RU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т.е.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)=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f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ru-RU" sz="30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 как суммарная интенсивность отказов системы является функцией числа элементов 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λ</a:t>
            </a:r>
            <a:r>
              <a:rPr b="1" i="1" lang="ru-RU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то можно записать следующее выражение: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)=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f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n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Случай 1.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пределение вероятности отказа производится пропорционально количеству элементов, которое содержит каждая система, т.е.: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)=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f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n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ое распределение осуществляется для систем, время работы которых в течение цикла незначительно отличается от продолжительности цикла  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1" i="1" lang="ru-RU" sz="3000" spc="-1" strike="noStrike" baseline="-25000">
                <a:solidFill>
                  <a:srgbClr val="006633"/>
                </a:solidFill>
                <a:latin typeface="Arial"/>
              </a:rPr>
              <a:t>ц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т.е.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≈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i="1" lang="ru-RU" sz="3000" spc="-1" strike="noStrike" baseline="-25000">
                <a:solidFill>
                  <a:srgbClr val="006633"/>
                </a:solidFill>
                <a:latin typeface="Arial"/>
              </a:rPr>
              <a:t>ц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 значении вероятности отказа системы, определяемом по формул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en-US" sz="24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) </a:t>
            </a:r>
            <a:r>
              <a:rPr b="1" i="1" lang="en-US" sz="2400" spc="-1" strike="noStrike">
                <a:solidFill>
                  <a:srgbClr val="006633"/>
                </a:solidFill>
                <a:latin typeface="Symbol"/>
                <a:ea typeface="Symbol"/>
              </a:rPr>
              <a:t></a:t>
            </a:r>
            <a:r>
              <a:rPr b="1" i="1" lang="ru-RU" sz="2400" spc="-1" strike="noStrike">
                <a:solidFill>
                  <a:srgbClr val="006633"/>
                </a:solidFill>
                <a:latin typeface="Symbol"/>
                <a:ea typeface="Symbol"/>
              </a:rPr>
              <a:t></a:t>
            </a:r>
            <a:r>
              <a:rPr b="1" i="1" lang="en-US" sz="24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en-US" sz="24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ru-RU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- интенсивность отказов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-й системы, зависимость между вероятностью отказа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 количеством элементов в системе n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меет линейный характер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чение весового коэффициента определяется по формул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0" i="1" lang="ru-RU" sz="2400" spc="-1" strike="noStrike">
                <a:solidFill>
                  <a:srgbClr val="006633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i="1" lang="en-US" sz="24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0" i="1" lang="ru-RU" sz="2400" spc="-1" strike="noStrike">
                <a:solidFill>
                  <a:srgbClr val="006633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i="1" lang="ru-RU" sz="2400" spc="-1" strike="noStrike" baseline="-25000">
                <a:solidFill>
                  <a:srgbClr val="006633"/>
                </a:solidFill>
                <a:latin typeface="Arial"/>
              </a:rPr>
              <a:t>ср</a:t>
            </a:r>
            <a:r>
              <a:rPr b="0" i="1" lang="ru-RU" sz="2100" spc="-1" strike="noStrike">
                <a:solidFill>
                  <a:srgbClr val="006633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число элементов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й системы;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1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- среднее число элементов в одной системе (сборочной единице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- число сборочных единиц, составляющих агрегат (машину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этом случае вероятность отказа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u-RU" sz="21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(t) i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й системы определяется по формуле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en-US" sz="21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21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2100" spc="-1" strike="noStrike">
                <a:solidFill>
                  <a:srgbClr val="006633"/>
                </a:solidFill>
                <a:latin typeface="Arial"/>
              </a:rPr>
              <a:t>)=</a:t>
            </a:r>
            <a:r>
              <a:rPr b="1" i="1" lang="ru-RU" sz="21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1" i="1" lang="en-US" sz="21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ru-RU" sz="2100" spc="-1" strike="noStrike" baseline="-25000">
                <a:solidFill>
                  <a:srgbClr val="006633"/>
                </a:solidFill>
                <a:latin typeface="Arial"/>
              </a:rPr>
              <a:t>ср</a:t>
            </a:r>
            <a:r>
              <a:rPr b="1" i="1" lang="ru-RU" sz="2100" spc="-1" strike="noStrike">
                <a:solidFill>
                  <a:srgbClr val="006633"/>
                </a:solidFill>
                <a:latin typeface="Arial"/>
              </a:rPr>
              <a:t>; 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ru-RU" sz="2100" spc="-1" strike="noStrike" baseline="-25000">
                <a:solidFill>
                  <a:srgbClr val="006633"/>
                </a:solidFill>
                <a:latin typeface="Arial"/>
              </a:rPr>
              <a:t>ср</a:t>
            </a:r>
            <a:r>
              <a:rPr b="1" i="1" lang="ru-RU" sz="2100" spc="-1" strike="noStrike">
                <a:solidFill>
                  <a:srgbClr val="006633"/>
                </a:solidFill>
                <a:latin typeface="Arial"/>
              </a:rPr>
              <a:t>=1- 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1" i="1" lang="ru-RU" sz="2100" spc="-1" strike="noStrike" baseline="-25000">
                <a:solidFill>
                  <a:srgbClr val="006633"/>
                </a:solidFill>
                <a:latin typeface="Arial"/>
              </a:rPr>
              <a:t>ср</a:t>
            </a:r>
            <a:r>
              <a:rPr b="1" i="1" lang="ru-RU" sz="21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21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2100" spc="-1" strike="noStrike">
                <a:solidFill>
                  <a:srgbClr val="006633"/>
                </a:solidFill>
                <a:latin typeface="Arial"/>
              </a:rPr>
              <a:t>)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Случай 2.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пределение вероятности отказа производится пропорционально времени работы системы в течение цикла, т.е. 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)=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f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30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en-US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кое распределение осуществляется для систем, в которых число элементов примерно одинаково, т.е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n </a:t>
            </a:r>
            <a:r>
              <a:rPr b="1" i="1" lang="ru-RU" sz="30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 ≈ n </a:t>
            </a:r>
            <a:r>
              <a:rPr b="1" i="1" lang="ru-RU" sz="3000" spc="-1" strike="noStrike" baseline="-25000">
                <a:solidFill>
                  <a:srgbClr val="006633"/>
                </a:solidFill>
                <a:latin typeface="Arial"/>
              </a:rPr>
              <a:t>ср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640" y="1557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Учебные вопрос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Качество как объект управ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Порядок расчета показателей надежности изделий на этапе проектиро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Случай 3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спределение показателей надежности осуществляется пропорционально количеству элементов и времени работы системы в течение цикла, т.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q</a:t>
            </a:r>
            <a:r>
              <a:rPr b="1" i="1" lang="en-US" sz="26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)=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f</a:t>
            </a: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1" i="1" lang="en-US" sz="26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1" i="1" lang="en-US" sz="26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1" i="1" lang="en-US" sz="2600" spc="-1" strike="noStrike" baseline="-25000">
                <a:solidFill>
                  <a:srgbClr val="006633"/>
                </a:solidFill>
                <a:latin typeface="Arial"/>
              </a:rPr>
              <a:t>i</a:t>
            </a:r>
            <a:r>
              <a:rPr b="1" i="1" lang="ru-RU" sz="2600" spc="-1" strike="noStrike">
                <a:solidFill>
                  <a:srgbClr val="006633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ое распределений осуществляется только в тех случаях, когда заранее известно количество элементов в отдельных системах и время их работы в течение цик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. Качество как объект управле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8353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управлением качеством продукци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следует понимать установление обеспечение и поддержание необходимого уровня качества продукции при ее разработке, производстве, эксплуатации или потреблении, осуществляемые путем систематического контроля качества и целенаправленного воздействия на условия и факторы, влияющие на качество продук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Задачи управления качеством продукции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ланирование и прогнозирование качества продук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бор оптимального варианта при проектировании новых видов продук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работка нормативно-технических документов на новые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иды продук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стоянный контроль качества продук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Задачи управления качеством продукции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оральное и материальное стимулирование исполнителей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ддержание и повышение качества продук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ттестация качества продук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Задачи управления качеством продукции 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изменения качества продукции    в процессе ее производства и эксплуатации;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работка научно обоснованных правил эксплуатации продукции и состава ЗИПа;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ведение и осуществление постоянной информации по качеству продук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900000" y="1989000"/>
            <a:ext cx="7777440" cy="3959280"/>
            <a:chOff x="900000" y="1989000"/>
            <a:chExt cx="7777440" cy="3959280"/>
          </a:xfrm>
        </p:grpSpPr>
        <p:sp>
          <p:nvSpPr>
            <p:cNvPr id="98" name=""/>
            <p:cNvSpPr/>
            <p:nvPr/>
          </p:nvSpPr>
          <p:spPr>
            <a:xfrm>
              <a:off x="900000" y="1989000"/>
              <a:ext cx="1808640" cy="91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ачество технического зад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89360" y="1989000"/>
              <a:ext cx="1808640" cy="91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ачество технологического оборудо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79080" y="1989000"/>
              <a:ext cx="1808640" cy="91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ачество материал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68800" y="1989000"/>
              <a:ext cx="1808640" cy="91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ачество тру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83400" y="3611880"/>
              <a:ext cx="1808640" cy="91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ачество изгото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85040" y="3611880"/>
              <a:ext cx="1808640" cy="91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ачество проек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84400" y="5032080"/>
              <a:ext cx="1808640" cy="91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Качество продук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04320" y="2901600"/>
              <a:ext cx="108504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89360" y="4524840"/>
              <a:ext cx="1899000" cy="50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788360" y="4524840"/>
              <a:ext cx="1899000" cy="50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93680" y="2901600"/>
              <a:ext cx="289404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83400" y="2901600"/>
              <a:ext cx="90432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688080" y="2901600"/>
              <a:ext cx="1085040" cy="7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513520" y="907200"/>
            <a:ext cx="42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Составляющие качества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2. Порядок расчета показателей надежности изделий на этапе проектировани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07:44:44Z</dcterms:created>
  <dc:creator>андрей</dc:creator>
  <dc:description/>
  <dc:language>en-US</dc:language>
  <cp:lastModifiedBy>RIS</cp:lastModifiedBy>
  <dcterms:modified xsi:type="dcterms:W3CDTF">2013-04-04T07:26:49Z</dcterms:modified>
  <cp:revision>6</cp:revision>
  <dc:subject/>
  <dc:title>Лекция  № 12 </dc:title>
</cp:coreProperties>
</file>