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FD7-5F7C-474F-B310-C84A61F2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1B5-7866-4A98-B6F6-05EF9A61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03F-621C-473A-8BEB-617E6F92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660-9C30-4FA0-8DEE-97527A91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CE37-F343-4967-83DC-80B68B4C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30AA-0ACE-4992-85DB-4861142F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73CB-D4BE-4FAA-9FD0-CA53DC3F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7007-0CAA-4FF4-ACBF-664D9C91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3E39-1203-4E57-B56F-54201EA8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2B66-B28E-4529-B56D-48B2475D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0B67-7666-4B12-95D4-845A89A8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FBD-34D7-4810-9CCC-2FA2B104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E49C-92C6-4A9C-A60A-C9C9F14D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D6D9-5FB3-4227-8396-09BB7CD4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F9FE-63F2-481B-A912-405147EA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6B33-654E-40DE-8855-0240201F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6539-BB4C-41E6-8BF3-24B5C7BE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53F-4D33-4971-AF43-3A01E094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093-B9F9-42AB-9CD8-1AF17D73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61C-F7F5-4A36-A326-B9A17721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E2E-43A7-4016-8B34-E3BC589F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D6D-4649-47E1-9C9C-C43354D7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3C2-CB42-4437-AB3C-38CAE7D3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F0B-2091-447C-AF40-BE7D783E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526A-CC21-43F7-8F83-055E769B6A81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09D9-1A09-4309-90B4-EEE3D63377E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0C28-243F-4F1E-BCB4-4E09E4580E8D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CF0C-78FC-4B69-A818-BA7DAA44D96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7E7C-06CF-4754-874E-5176AC091B9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Лекция  № 3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ы, рассматриваемые в области надежност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4D01-50FC-4B01-8DB4-5F8853ADAFD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14200" y="428400"/>
            <a:ext cx="8786880" cy="57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процессе эксплуатации объект может находиться в одном из следующих состояний: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исправном, неисправном, работоспособном, неработоспособном и предельн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Исправное состояние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исправность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state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— состояние объекта, при котором он соответствует всем требованиям нормативно-технической и(или) конструкторской (проектной) документ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35A1-4BD0-4D8C-B478-9BA528057E3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142560"/>
            <a:ext cx="86756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еисправное состоя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еисправность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y sta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— состояние объекта, при котором он не соответствует хотя бы одному из требований нормативно-технической и (или) конструкторской (проектной) документ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неисправности, не приводящие к отказам (нарушение лакокрасочного покрытия, износ покрытий кресел), и неисправности, ведущие к возникновению отказа (трещины металлоконструкц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мки, не влияющие на безопасность полета, в авиации называю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"отложенными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о такие отказы квалифицируются как БП (без последств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лет с этими неисправностями разрешен, но при этом командир корабля лично принимает решение - отправляться ли в рей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неисправностей, с которыми можно отправляться в полет, индивидуален для каждого самолет и четко прописан в инструкции, составленной конструкторами ма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Четырехмоторному Ил-96 разрешен вылет с двумя неисправными реверсами при условии, если эти реверсы расположены на симметричных двигателях и если неисправность будет устранена не позже 13 летных часов. В той же инструкции допускается вылет Ил-96 и с тремя неисправными реверсами - но только без пассажиров и только до базового аэродр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40AD-AB0A-4EA5-A0A0-249E376A9ED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Arial"/>
              </a:rPr>
              <a:t>Работоспособное состояние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работоспособность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 state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— состояние объекта,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котором значения всех параметров, характеризующих способность выполнять заданные функции, соответствуют требованиям нормативно-технической и (или) конструкторской (проектной) документ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F458-C909-4306-984F-576D7688695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5840" y="135684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еработоспособное состояни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 stat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— состояние объекта, при котором значение хотя бы одного параметра, характери­зующего способность выполнять заданные функции, не соответствует требованиям нормативно-технической и (или) конструкторской (проектной) докум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860A-0A5E-4DAA-8A4D-D8431F87911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оспособность и неработоспособность в общем случае могут бы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лным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частичным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ностью работоспособный объект обеспечивает в определенных условиях максимальную эффективность его приме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 применения частично работоспособного объекта меньше максимально возможной, но значения ее показателей при этом еще находятся в пределах, установленных для такого функционирования, которое считается нормальным. Частично неработоспособный объект может функционировать, но уровень эффективности при этом ниже допускае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стью неработоспособный объект применять по назначению невозм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193D-4CF0-452A-A82D-58403661CFE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214200"/>
            <a:ext cx="85010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Предельное состояние объекта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ing stat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— состояние, при котором дальнейшая его эксплуатация недопустима или нецелесообразна, либо восстановление его работоспособного состояния невозможно или нецелесообразн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этом случае эксплуатацию прекращают из-за неустранимого нарушения требований безопасности или неустранимого ухода заданных параметров за установленные пределы, или неустранимого снижения эффективности эксплуатации ниже допустимо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1B44-45E3-4DAE-9620-E80DCB3260F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7120" y="21420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осстанавливаемых объектов (автомобилей) переход в предельное состояние определяется наступлением момента, когда дальнейшая эксплуатация невозможна или нецелесообразна вследствие следующих причи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49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овится невозможным поддержание его безопасности, безотказности ил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эффективности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нимально допустимом уров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49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изнашивания и (или) старения объект пришел в такое состояние, при котором ремонт требует недопустимо больших затрат или не обеспечивает необходимой степени восстанов­ления исправности или ресур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493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B48D-CE28-4088-BB27-298B9C78B12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Учеб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щие понятия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технических систем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состояния объекта (технической системы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97D7-7281-4E7E-993B-C4A3987FCDA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ории надежности используют пон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ъек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лемен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исте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также другие обобщающие многочисленные понятия, встречающиеся в технике, на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аш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грега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зе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та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зделие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0F61-3C92-4275-A388-0508C7EAB9C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ой задач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и надежности является изучение закономерностей возникновения отказов и неисправностей объекта и на базе результатов исследований — разработка мероприятий, направленных на обеспечение выполнения объектом заданных функций с наименьшими затра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ый в тексте терми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объект»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наиболее общим наименованием изделия, например автомобиля, оборудования или отдельной сборочной едини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, предназначенный для самостоятельного выполнения заданных функций, будем называ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исте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4761-5CDB-49FE-9B17-1F3D1AFDCC5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500040" y="285840"/>
            <a:ext cx="2200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ая система состоит из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элементов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самолет как техническая система включает в себя следующие элем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овая устан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удование и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http://uz.denemetr.com/tw_files2/urls_8/84/d-83997/7z-docs/1_html_m5e629d0d.png"/>
          <p:cNvPicPr/>
          <p:nvPr/>
        </p:nvPicPr>
        <p:blipFill>
          <a:blip r:embed="rId1"/>
          <a:stretch/>
        </p:blipFill>
        <p:spPr>
          <a:xfrm>
            <a:off x="2678040" y="765000"/>
            <a:ext cx="63327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B35C-FEE5-481E-8BFB-EE441AA6497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ехнические системы могут быть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восстанавливаемы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сстанавливаем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ительного времени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роткого времени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ервированн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резервирован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771D-A34C-4F29-8269-CECDB40B360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28400" y="785880"/>
            <a:ext cx="8429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ческую систему называю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невосстанавливаем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неремонтируемой), если ее отказ приводит к неустранимым последствиям и систему нельзя использовать по своему назна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после отказа невосстанавливаемой системы считается невозможной или нецелесообраз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5A84-B9E1-4B50-B044-7FE3695E4D8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2560" y="928440"/>
            <a:ext cx="84438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осстанавливаемой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монтируемой) понимают систему, которая может продолжать выполнение своих функций после устранения отказа, вызвавшего прекращение ее функцион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восстанавливаемой системы после отказа может быть возобновлена в результате проведения необходимых восстановительных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09A9-4FFD-44B7-9208-C1380F36605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280" y="285840"/>
            <a:ext cx="86043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системы смешанного типа, у которых часть элементов может восстанавливаться, а другая —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висимости от выполняемых функций различают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стемы длительного и системы короткого времени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зервированием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c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называют способ повышения надежности путем включения резервных единиц, способных в случае отказа основного устройства выполнять его функции. Этот метод обладает большими возможностями получения заданных уровней надежности и имеет широкое практическое приме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Решенкин А.С.</cp:lastModifiedBy>
  <dcterms:modified xsi:type="dcterms:W3CDTF">2019-10-10T06:58:23Z</dcterms:modified>
  <cp:revision>12</cp:revision>
  <dc:subject/>
  <dc:title>Лекция  № 11 </dc:title>
</cp:coreProperties>
</file>