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A44-FFD1-42C4-88C6-3C16B145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2742-3027-4AEE-B69B-74244B26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01E-427E-4B3A-BB8B-3EE1BE19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B23D-425B-41A7-ACC8-E21B9F3A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1AC5-4DA5-476D-B4A6-E0EE4FBC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39D-9AF2-419A-9477-FC50EE12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705-DC44-45E4-8660-CCDE38F5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367D-5372-4D7D-87C2-F616604A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73DB-2117-44CD-8F4C-5FEA2AB8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38D-88F4-45C0-BA3D-8703388B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8E8-514A-43D1-94BB-B59406BD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997-876C-420E-8B11-0E324696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3663-8D19-42E6-B102-74797C9A7765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D619-4005-4B4B-8217-DD9FFB003AB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екция  № </a:t>
            </a:r>
            <a:r>
              <a:rPr b="1" lang="en-US" sz="5000" spc="-1" strike="noStrike">
                <a:solidFill>
                  <a:srgbClr val="006633"/>
                </a:solidFill>
                <a:latin typeface="Arial"/>
              </a:rPr>
              <a:t>7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4000" y="4365360"/>
            <a:ext cx="8281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ритерии надежности восстанавливаемых систем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EBA0-F16D-438D-A988-4099C7C6B0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5:55:47Z</dcterms:created>
  <dc:creator>андрей</dc:creator>
  <dc:description/>
  <dc:language>en-US</dc:language>
  <cp:lastModifiedBy>RIS</cp:lastModifiedBy>
  <dcterms:modified xsi:type="dcterms:W3CDTF">2013-02-27T05:40:09Z</dcterms:modified>
  <cp:revision>23</cp:revision>
  <dc:subject/>
  <dc:title>Лекция  № 11 </dc:title>
</cp:coreProperties>
</file>