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EDB-397F-4AA2-842C-5A492CBD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15C-36F1-497B-A5D7-DAEDED9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5939-2160-45C3-85B6-2F52EF21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AA1-527E-48CA-AAC1-E934ABDE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B45-4DD9-4813-A859-2A0F570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DC2-336A-4DD0-9E10-B0447EC2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C08-84F6-4BB9-8A9B-2942ACBE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C34-A277-4C37-B346-A95AC4F0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F0FF-E11D-4C82-8AE0-A4DC5FD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465-7261-4821-91D4-2AA93273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F70-9FC8-46EE-BDF8-A50BA37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0DE-8F30-4091-A8BE-50BAF3F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D9C1-4793-4786-85B7-D90E4A69C1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662-38A7-4B6B-90C7-D64005BEDD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290F-039E-42A0-B476-87CCB74A9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водная лекция по дисциплин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адежность агрегатов и систем воздушных суд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CEA5-BAEA-4BD6-8EB4-CAC4544B80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480" y="71388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Второй этап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характеризовался широким развитием работ по экспериментальной оценке фактической надежности, сбору и обработке эксплуатационной информации о надежности. В результате осуществленных на этом этапе работ была пересмотрена концепция случайности причин отказов и их неизбежности, были объяснены многие случайные отказы и установлена взаимосвязь между конструкцией изделия, технологией изготовления и причинами отказ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нформация о надежности изделий стала более полной, что позволило внести значительную ясность в сущность отказ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6397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269-A0FB-4C63-8226-91BA25259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Третий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ап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характеризуется как дальнейшим развитием математической теории надежности, так и сближением этой науки с техническими дисциплинами, приданием надежности инженерной направлен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9FBF-88BF-4E39-B66E-3F4C6E5053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00" y="428760"/>
            <a:ext cx="8786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b050"/>
                </a:solidFill>
                <a:latin typeface="Calibri"/>
              </a:rPr>
              <a:t>Большинству работ на этом этапе присущи следующие принцип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каз от концепции случайности причин отказов и их неизбежности и связь отказов с конструктивно-технологическими фактор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установления причин отказов, а не только констатация их случаев и числ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сутствие направленности методов промышленного контроля, действующих на предприятиях, на выявление дефектов, приводящих к отказа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сть повсеместного перехода на контроль надежности в условиях изготовл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3EE-76DF-4D22-953D-C8C674588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1e1c11"/>
                </a:solidFill>
                <a:latin typeface="Calibri"/>
              </a:rPr>
              <a:t>Современным концепциям организации работ в области на­дежности в большинстве стран придается конкретная практическая направленность. Так, в Японии издано специальное руководство для директоров фирм, в котором определен состав конкретных мероприятий при проведении работ в области надеж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 причин отказов изделий-аналог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стандартизованны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ощение конструкции системы (изделия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ение ошибок при конструировании и изготовле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ое изучение достигнутого уровня наде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требуемого уровня надежности комплектующих элемент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резервир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ение легкости осмотра и технического обслужи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кая регламентация в технических условиях режимов эксплуатации и функциональных огранич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ие условий хранения и максимально допустимой длительности хран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необходимой упаковки, учитывающей удары и вибрации при транспортирован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убподрядчиков, поставляющих продукцию гарантированного качества, и контроль за их деятель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времени выполнения изделием своих функций и регламентация допускаемого срока использования издел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чное соблюдение регламента технических обслужив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4D0D-7E1E-46EC-B557-E2A541CD7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Отработка  на надежность серийно изготавливаемых изделий должна включать в себ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сбора и обработки информации о надежности изделий в процессе эксплуат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ю анализа рекламаций, претензий потребителей и данных служб гарантийного ремон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составных частей, лимитирующих надежность изделий (слабых элементов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ление причин отказов и повторяемости каждого из н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ление технологических параметров, оказывающих решающее влияние на надежность изделий и их комплектующих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68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у и реализацию мероприятий по устранению причин наиболее часто повторяющихся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4630-8D11-4566-AFBC-67ECB0C90B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теоретические и практические исследования в области надежности развивались по двум основным направления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ерво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правление связано с развитием математических методов оценки надежности, особенно применительно к сложным система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на основе статистической обработки результатов наблюдений за отказами разрабатывают методы, обеспечивающие высокий уровень надежности путем оптимизации структуры сложной сист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аправление возникло в радиоэлектрони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D3B-51DC-408B-87CD-AC2F51909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2920" y="71424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Второе направлени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ано с изучением физических процессов старения (изнашивания, усталостного разрушения, коррозии, кавитации и др.). В этом случае разрабатывают соответствующие методы расчета на долговечность и применяют технологические способы, обеспечивающие необходимую надежность конструктивных элементов. Это направление возникло в машиностро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CBDE-29EF-4484-9825-62EB36CC5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840" y="142560"/>
            <a:ext cx="89298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диагностика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сходит от греческого слов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iagnostico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способный распозна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 большинство исследователей определяют диагностику как науку о формах проявления отказов, методах и средствах определения техни</a:t>
            </a:r>
            <a:fld id="{6DFD12EB-590C-4821-8D1E-F023B7743276}" type="slidenum">
              <a:rPr b="0" lang="ru-RU" sz="3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ского состояния и прогнозирования ресурса работы технических устройств без их разбор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8906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29D-C83D-4920-AFBA-69DC5CFCD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285840"/>
            <a:ext cx="9001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включает в себя контроль технического состояния автомобиля, прогноз ресурса его безотказной работы и заключение о необходимых технических воздействиях на механиз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трол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в сравнении показателей технического состояния механизма, выраженных диагностическими сигналами, с нормативами. На основании этого выявляют неисправности механизм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гноз ресурс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определение возможности пробега автомобиля до очередной диагностики. Задача прогноза ресурса сводится к экстраполяции закономерности изменения работоспособ­ности объекта до достижения им предельного состояния, обусловленного технико-экономической целесообразностью дальнейшего исполь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 себя перечень необходимых воздействий на механизм как ремонтного (по результатам контроля), так и профилактического (по результатам прогноза) характе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3BC6-074A-4895-9365-6EA430C2C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85816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1. Предмет, цели и задачи дисциплины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77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ория надежност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разрабатывает методы и средства поиска неисправностей в данном объекте — она располагает методами, позволяющими определять (на основе анализа статистической информации) вероятность возникновения отказов в совокупности одинаковых объек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26E4-4165-42EA-8438-79B12E46C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Техническая диагностика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олагает методами, с помощью которых можно оценить состояние конкретного объекта. Вместе с тем многие задачи диагностики решаются на основе теории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311F-3D79-4E34-B711-8A895A20F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труктуру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теории надежност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ходят разделы, которые могут изучаться как самостоятельные дисципли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тематическая теория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изическая теория надежности (физика отказ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гнозирование работоспособ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иагностика технического состоя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контроля показателей надежност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ория восстановления работоспособ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9B84-3804-4127-8208-982A93540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21420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бые технические устройства всегда изготавливали в расчете на некоторый достаточный для практических целей период экономически эффективного использования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нако долгое время надежность не измеряли количественно, что значительно затрудняло ее объективную оцен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ценки надежности использовали такие понятия, как 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«высокая надежность», «низкая надежность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другие качественные определ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тановление количественных показателей надежности и способов их измерения и расчета положило начало научным методам в исследовании надеж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9F95-1708-428E-8F5C-770410FBC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2. Этапы развития работ в области надежности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2920" y="642960"/>
            <a:ext cx="88581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ашей стране проблема надежности машин в концептуальном аспекте впервые была выдвинута и обсуждена на сессии Академии наук СССР в 1934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первых этапах развития теории надежности основное внимание было сосредоточено на сборе и обработке статистических данных об отказах изделий. В оценке надежности преобладал характер констатации количественных характеристик потока отказов на основании статистических данны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теории надежности сопровождалось совершенствованием вероятностных методов исследования, таких как определение законов распределений наработок до отказа, разработка методов расчета и испытаний изделий с учетом случайного характера отказов и т. 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E275-D39B-490A-8190-864F20B6F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личивающаяся сложность технических устройств, возрастающая ответственность функций, выполняемых техническими системами, повышение требований к качеству изделий и условиям их работы, возросшая роль автоматизации управления техническими объектами — основные факторы, определившие главное направление в развитии науки о надеж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 становятся все более сложными, состоящими из десятков тысяч элементов. Если не принимать специальные меры по обеспечению надежности, любая машина практически окажется неработоспособ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805F-D931-440B-9DCF-531DF8DF2E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 вопросов, входящих в компетенцию теории надежности, наиболее полно сформулировал академик А. И. Берг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434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Теория надежности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устанавливает закономерности возникновения отказов и восстановления работоспособности системы и ее элементов, рассматривает влияние внешних и внутренних воздействий на процессы в системах, создает основы расчета надежности и предсказания отказов, изыскивает способы повышения надежности при конструировании и изготовлении систем и их элементов, а также способы сохранения надежности при эксплуа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F95-45A6-4B54-BFBA-5A64A35993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2920" y="14292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развития работ в области надежности некоторые зарубежные специалисты подразделяют на три этап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Первый этап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Aharoni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карандашно-бумажный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этот период выполняли статистико-вероятностные описания наработок до отказа, основанные на экспоненциальном законе их распреде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менты наступления отказа и их причины рассматривали как случайные события, обладающие фатальной неизбежностью, в отрыве от причин, вызывающих появление отказ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6:07:50Z</dcterms:created>
  <dc:creator>Учебная часть</dc:creator>
  <dc:description/>
  <dc:language>en-US</dc:language>
  <cp:lastModifiedBy>Решенкин А.С.</cp:lastModifiedBy>
  <dcterms:modified xsi:type="dcterms:W3CDTF">2020-02-11T04:21:59Z</dcterms:modified>
  <cp:revision>18</cp:revision>
  <dc:subject/>
  <dc:title>Слайд 1</dc:title>
</cp:coreProperties>
</file>