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8C6-60DE-4843-80AF-124EDE51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9DC-34BB-4DED-A2F0-E6711E69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711-2619-4C4C-8CD7-37C7A1DB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473E-8C35-4395-ACEE-86FDE5EC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628-FC5C-498F-990A-03D1C14E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9408-2CC1-49A6-B1EE-F9ED48E6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637-A633-4895-8034-5BD17CD6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6BD-0E5B-489E-8DFB-383A1AC5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131-9B46-47D7-A27E-B9EF05A8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9F1-EA26-495D-9E14-43B4AEF0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D11-08B7-46DD-87A6-5A342A59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677-200A-4F7C-9429-0A18A84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5C6F-0F2E-42DF-9358-68170BBE11B7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9D94-72CC-41D3-A6E3-E897F71BA53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8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9640" y="2997360"/>
            <a:ext cx="8282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бор, анализ и обработка эксплуатационных данных о надежности изделий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ACF-5C29-46A7-8460-0F609F22FC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Каждый отказ машины в процессе наблюдений должен характеризоваться такими данными, как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работка элемента до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та появления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именование или номер отказавшего эле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 и внешнее проявление отка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полагаемая причина его возникнов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особ и время устранения отка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D1B-1E47-43C8-86E9-3852781727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 общем случае для сбора и обработки информации о надежности предусмотрены следующие виды форм учетной документации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ичные формы учета эксплуатационной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ы-накопители эксплуатационной информ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ормы записи результатов анализа над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177-A5D4-46FE-AF89-6996528533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 зависимости от организации использования машин и ухода за их техническим состоянием различают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контрольн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ормальн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ядовую эксплуатац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D9E-BBB7-4A4D-B7F4-2CCA693AFD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Нормальн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­сплуатацию, при которой соблюдают правила использования машин и ухода за ними, оговоренные в технической докум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96600"/>
                </a:solidFill>
                <a:latin typeface="Arial"/>
              </a:rPr>
              <a:t>Рядов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сплуатацию, проводимую с отклонениями от требований технической документации, вызванными, например, необходимостью проведения работ в сжатые сроки или в особо сложных услови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B3E-A3B7-4216-960B-75CD3F34BB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Основными методами сбора информации о надежности машин в эксплуатации являются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струментальный мето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 хронометраж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 периодических наблюд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, основанный на анализе данных эксплуатационной и ремонтной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173-9840-4E3A-B464-B08345128B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Инструментальный мет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зволяет получить объективную информацию в наиболее полном объем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формацию этим методом собирают, как правило, в условиях подконтрольной эксплуатации при испытаниях машин. В качестве технических средств сбора информации используют контрольно-измерительную аппаратуру и самопишущие приборы, устанавливаемые на исследуемой машин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FB8-1568-4C0D-BB4C-C27556947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Метод хронометраж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спользуют для определения чистого времени работы элементов маш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ть метода заключается в том, что специалист-хронометрист с помощью секундомера фиксирует моменты начала и окончания работы машины или отдельных ее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этого можно также использовать приборы, автоматически регистрирующие наработку исследуемых элементов машин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051-D5E4-4C50-BF72-BAF58ABD81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040" y="83628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6600"/>
                </a:solidFill>
                <a:latin typeface="Arial"/>
              </a:rPr>
              <a:t>Метод периодических наблюдени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меняют в тех случаях, когда установить постоянное наблюдение за машиной (или группой машин) невозможно из-за удаленности объ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бирают информацию в этом случае на основании опроса водителей и результатов технической экспертизы, проводимой на автомобил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2F6-425E-4737-AFDC-9D7FA9E745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Метод сбора информации, основанный на анализе данных эксплуатационной и ремонтной документ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применяют весьма широк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условии добросовестного заполнения технической документации и содержания ее в образцовом порядке с помощью этого метода можно получить исходные данные для определения всех основных нормируемых показателей наде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E26-1DDF-4638-AFE2-743D69C107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3. Построение эмпирического распределения и статистическая оценка его параметров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624720" cy="374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1332000" y="5084640"/>
          <a:ext cx="7308720" cy="1032120"/>
        </p:xfrm>
        <a:graphic>
          <a:graphicData uri="http://schemas.openxmlformats.org/drawingml/2006/table">
            <a:tbl>
              <a:tblPr/>
              <a:tblGrid>
                <a:gridCol w="7308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тистическая функция плотности эмпирического распредел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— гистограмма распределения случайной величины;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— кривая распределения случайной велич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800" y="28425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CCD-66E4-406F-92ED-51C6AD9904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чебные вопрос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ли и задачи сбора информации и оценки надежности маш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нципы сбора и систематизации эксплуатационной информации о надежности издел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роение эмпирического распределения и статистическая оценка его параметр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DFB-5707-4123-AE2F-747027E47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й числовой характеристике случайной величины соответствует ее статистический аналог. Статистические аналоги будем обозначать теми же буквами, что и соответствующие числовые характеристики, но со звездоч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математического ожидания таким аналогом является среднее арифметическое наблюдаемых значений случайн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348000" y="2421000"/>
          <a:ext cx="180036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421000"/>
                    <a:ext cx="180036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840680" y="3338280"/>
            <a:ext cx="476856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е значение случайной величины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бщее числ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348000" y="4581360"/>
          <a:ext cx="187164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4581360"/>
                    <a:ext cx="18716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920" y="4149000"/>
            <a:ext cx="8483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атистического ряда среднее арифметическое находится из вы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5496480"/>
            <a:ext cx="2610000" cy="3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Р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астота,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Р</a:t>
            </a:r>
            <a:r>
              <a:rPr b="1" i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 =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03280" y="5734080"/>
          <a:ext cx="3128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734080"/>
                    <a:ext cx="3128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557000" y="5856840"/>
            <a:ext cx="6549480" cy="34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е, соответствующее середин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интервала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исло отка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F739-B1CD-4328-A6DD-0379BDEDFF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333000"/>
            <a:ext cx="84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характеристики рассея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аналогом является статистическая дисперсия случайной величи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640" y="20599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статическое среднее квадратичное от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64000" y="836640"/>
          <a:ext cx="251928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836640"/>
                    <a:ext cx="251928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27280" y="2421000"/>
          <a:ext cx="360036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2421000"/>
                    <a:ext cx="360036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72120" y="3715560"/>
            <a:ext cx="293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статистического 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76720" y="4076640"/>
          <a:ext cx="2952720" cy="60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076640"/>
                    <a:ext cx="2952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57600" y="4796640"/>
            <a:ext cx="7387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ческий коэффициент вариации определяется по фор­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95640" y="5157720"/>
          <a:ext cx="1513080" cy="92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5157720"/>
                    <a:ext cx="151308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01F-130E-4F52-ACB4-48EE914BC2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дальнейшей обработке необходимо решить вопрос о том, как подобрать для данных статистического ряда теоретическую кривую распределения, выражающую лишь существенные черты материала, а не случайности, связанные с недостаточным объемом экспериментальных дан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ид теоретического распределения, как правило, зависит от процессов, влияющих на изменение случайной величины. В некоторых случаях он выбирается просто по внешнему виду гистограммы. Найденные параметры эмпирического распределения подставляют в функцию теоретического распределения и рассчитывают вероятности появления случайной величины в интервалах (теоретические расчеты). Проверка согласованности экспериментальной и выравнивающей кривых часто производится по критерию Пирсона (критерию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          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03640" y="4437000"/>
          <a:ext cx="5032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4437000"/>
                    <a:ext cx="503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07B-288C-4982-9039-9BAB5A94C7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 дает возможность оценить степень согласия теоретического и статистического распред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значениям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редством таблицы нормального распределения устанавливают теоретические частоты. Критерий согласия  находится с помощью зависим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627280" y="3860640"/>
          <a:ext cx="381780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860640"/>
                    <a:ext cx="38178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5171760"/>
            <a:ext cx="5473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число интервалов наработки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— теоретическая частота случайной величины в интерв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EA5F-E0E5-4DC0-B587-C159B00347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 определения критерия  записывается в таблицу. Таким образом, схема применения критерия  при оценке согласия теоретического и статистического распределения сводится к определению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ры расхождения (по формуле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ла степеней свободы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r = r(S+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— число параметров теоретического распред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бличного значения вероятности согласия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B84-E334-4824-980A-5AB847784F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ашин и оборудования оценивают для определения их соответствия установленным требованиям путем сопоставления показателей долговечности, безотказности, ремонтопригодности и сохраняемости исследуемого изделия с аналогичными показателями эталонного издел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1. Цели и задачи сбора информации и оценки надежности машин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B49-CFBB-44D6-926C-51A603A6BB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1125360"/>
            <a:ext cx="8734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ой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целью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бора информации является своевременное обеспечение полных, объективных и достоверных данных о надежности машин и их элементов в эксплуат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обходимым условием достижения поставленной цели является организация четкой системы сбора и обработки информации о наде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CC0-89AB-45C0-8A91-6857444364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Система сбора и обработки информации о надежности должна обеспечить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евременное получение полных, сопоставимых и объективных данных о надежности машин, работающих в различных условиях эксплуат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еративную обработку статистических данных и представление результатов в форме, наиболее удобной для анализа надежности машин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т и координацию мероприятий по повышению надежности, проводимых разработчиками, заводами-изготовителями и эксплуатационными организаци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BB9-2B05-49A6-B176-3661AAB126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ной чертой эксплуатации машин является их использование в различных климатических зонах, дорожных условиях и при производстве работ различных видов. Срок службы основных элементов машин достаточно велик и составляет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—10 л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C62-3BB3-4925-B3D9-D11AA493E8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Результаты сбора и обработки информации о надежности машин и оборудования должны обеспечить возможность решения следующих задач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ахождение причин возникновения отказов и неисправносте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явление деталей, сборочных единиц и комплектующих изделий, лимитирующих надежность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становление и корректировку нормируемых показателей на­дежности машин и их элемент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основание норм расхода запасных частей, структуры ремонтного цикла и периодичности проведения технического обслуживания и ремонтов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ыявление влияния условий и режимов эксплуатации на надежность машин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ределение экономической эффективности мероприятий по повышению надежности машин и их элеме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12C-6938-4C6D-B169-C980095227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сновным источником информации о надежности автомобилей является специально организуемая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996600"/>
                </a:solidFill>
                <a:latin typeface="Arial"/>
              </a:rPr>
              <a:t>подконтрольная эксплуатац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ли испытания в максимально приближенных к эксплуатационным условиях, оговоренных в нормативно-технической докумен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Подконтрольной эксплуатаци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эксплуатацию заданного числа машин в строгом соответствии с требованиями технической документации, сопровождаемую контролем технического состояния основных элементов каждой машины специально подготовленным персонал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64D-E868-4BB6-AE00-03AEA6E906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2. Принципы сбора и систематизации эксплуатационной информации о надежности</a:t>
            </a:r>
            <a:br>
              <a:rPr sz="2000"/>
            </a:b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издели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всесторонней оценки надежности машин необходимо в результате сбора информации получить полные сведения об объекте исследования, условиях его эксплуатации, характере отказов и способах их устра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ные сведения о машине приведены в техническом паспорт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мар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завод-изготов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заводской номе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время изготов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Категор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53172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00"/>
                </a:solidFill>
                <a:latin typeface="Arial"/>
              </a:rPr>
              <a:t>наработка до начала наблюд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351-83E5-40F6-B678-B248FC1F7E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3-04T05:40:51Z</dcterms:modified>
  <cp:revision>28</cp:revision>
  <dc:subject/>
  <dc:title>Лекция  № 11 </dc:title>
</cp:coreProperties>
</file>